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1E61-220B-4058-BCFB-8BB6FB9C6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CB0E-5B65-452F-A6C0-872E7DFC8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90A5-E434-4823-8959-6714A9C13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AAF7-F9D7-47CD-979E-98B98807E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A3FB-CC24-4066-BF86-CE98D14DE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9762-7289-4345-B618-06F801716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91FF-C5BB-429D-A9A1-ECE72BC96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7669-6E31-4B28-AE6A-667D6B57E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507C-F831-44BD-B056-FC6DBFC9C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D185-129A-40B9-AB17-4AEA778BF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8A23-E8EA-496D-BE7C-BA9645BE1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F270-129F-45AF-A129-74A8F2B8B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CCB4-B80E-4393-B76D-9F3150277E9F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f.vu.lt/~adamonis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ygwin.org/" TargetMode="External"/><Relationship Id="rId2" Type="http://schemas.openxmlformats.org/officeDocument/2006/relationships/hyperlink" Target="http://www.cygwin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Andrius Adamoni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2007-02-08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Tiksl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ikslas – gilintis ne tik į C++ kalbos vingrybes, bet ir į technikas, ką galima padaryti, naudojant C+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rganizaciniai dalyk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kaito: Andrius Adamon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Informacija: </a:t>
            </a:r>
            <a:r>
              <a:rPr b="0" lang="lt-LT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mif.vu.lt/~adamon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l.paštas: andrius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tsk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adamonis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eta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mif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tsk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vu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tsk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Forma: paskaitos, pratyb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Laikas: ketvirtadieniais 14:00-15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eta: 103 a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tsiskaity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ratyb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Darbo pratybų metu įvertinimai taps 5 balais egzamino įvertin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Viena tema, trys sudėtingėjančios programos (atitinkamai po 1, 2 ir 2 bal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gzamin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Testas, kurio metu reikė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rašyti, ką daro duota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keisti duotą programą, kad darytų tai, ką reik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rašyti program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grindinės taisykl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okytis viso semestro metu, o ne tik per sesiją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aitų lankymas privalomas tiems, kas nenusiteikęs mokytis savarankiškai viso semestro me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Ieškosiu priemonių, kaip užtvirtinti per paskaitas sužinotą medžiagą pratybų metu (ir patikrinti, kaip tai pavyk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Turin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s yra objekta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C++ technikos (lyginant su 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lasės ir objekta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inaminis objektų kūri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veldėjimas ir polimorfiz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OOP principa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rojektavimo šablona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Literatūr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grindinė literatūr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ruce Eckel „Thinking in C++, 2nd ed.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cygwin.org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lt-LT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cygwin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7-02-18T08:13:54Z</dcterms:modified>
  <cp:revision>30</cp:revision>
  <dc:subject/>
  <dc:title>PowerPoint Presentation</dc:title>
</cp:coreProperties>
</file>