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100E-F236-45B4-A33F-F5F09962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B24E-C177-445B-A511-71F6AAED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5CD6-A96C-47EB-B6C0-1A1F621C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6F6E-52A3-4553-AB99-596CA728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95EF-FB11-431B-B9D6-69D5E3FD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14FF-C1DC-4B16-8CEF-F61E3FEF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BE4C-26E0-4DAF-B6DC-F549537D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C636-7993-4740-9050-37C12793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DED7-619D-4C9E-AF1E-CF14069B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9500-93FA-4A4E-AC0F-D0F06F78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3545-E541-47D1-BA60-21D08646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C736-41F2-4581-9394-78845319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4F29-82E8-42C4-9CE3-8CD4C7B1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63A8-F25D-42DE-B0DB-B7BAF722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457A-05C8-49CD-A34C-72C023E9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CD8A-40BC-46EC-99D6-239508E9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AD12-8677-4335-95DC-366F2944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8739-EA7E-4350-BD95-AAF89C07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4ABB-B93C-4965-93E8-A6B38507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7909-6E77-41F1-9132-A95CA84E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713A-2054-487A-8880-E07D6DDF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CDB1-DF94-498A-A176-8E0020CC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765-BAD3-4F52-8A60-34A2DB73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8927-5AF9-4E9C-8B41-CD5790F1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C07B-D831-44FF-844F-37C3976A3C19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C9C3-73B2-48DE-B8CB-E209F6DDD7C8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PSICHIKOS RAIDA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sichikos ontogenezė ir filogenezė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Žmogaus raidos periodizacij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E.ERIKSONO PSICHOSOCIALINĖS RAIDOS TEORIJA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Saugumas – nesaugum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nuo gimimo iki 1 metų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Autonomiškumas – gėda, abejonė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1-3 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Iniciatyvumas – kaltė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3-6 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Meistriškumas – menkavertiškum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7-11 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Tapatumas – vaidmenų neaiškum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paauglystė, 11 – 20 m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Intymumas – izoliacij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jaunystė, 21 –2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Atsinaujinimas – sąsting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vidutinis amžiu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Integracija (pilnatvė) – nevilt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senatvė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Raidos KRIZĖS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utrieji individualios raidos perioda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n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v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ūs perioda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rizės esmė – poreikių, kurie kyla kiekvieno amžiaus tarpsnio pabaigoje, nepatenkinimo rezulta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Ypatuma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ahoma"/>
              </a:rPr>
              <a:t>1) sunku atskirti krizės pradžią ir pabaigą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ahoma"/>
              </a:rPr>
              <a:t>2) mokykloje krenta bendras darbingumas, konfliktai su aplinkiniais, konfliktai viduj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ahoma"/>
              </a:rPr>
              <a:t>3) šiame periode vyst. būdingas negatyvus charakteris, vyst. atlieka tarsi griaunamąjį darbą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RAIDOS</a:t>
            </a: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 KRIZĖ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1 metų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3 metų (Aš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7 metų (perėjimas nuo ikimokyklinio amžiaus į mokyklinį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auglystė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idutinio amžiaus (api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0m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enatvės + šeimos krizė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aauglystė ir jaunystė 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Akceleracij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Infantiliz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Didėja sugebėjimas abstrakčiai mąstyt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Padidintas emocionalu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Psichosocialinis moratoriu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Filogene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rūšies istorinė raida, psichikos atsiradimas ir rai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Ontogene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žmogaus raida per jo gyvenimą. Individualus organizmo vystymasis. Ją tiria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raidos psicholog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FILOGENETINIS PSICHIKOS VYSTYMASI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281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Kinezė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–organizmo bendro aktyvumo pasikeitimas, veikiant kuriam nors aplinkos veiksniu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Taksis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yra kryptinga reakcija į konkretų aplinkos reiškin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Nesąlyginis refleksas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- atskiro organizmo lokali reakcija į išorinį ar vidinį dirginimą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Instinktas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- sudėtingiausias paveldėto elgesio komponentas, jam sukelti reikalinga vidinė parengtis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Pripratimas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susijęs su viso organizmo ar atskirų jo dalių reakcijų silpnėjimu ir išnykimu, kartojantis nereikšmingam arba virtusiam nereikšmingu stimulu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Klasikinis sąlyginis reflek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Instrumentinis sąlyginis reflek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Intelektinė veikla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įgalina orientuotis naujoje situacijoje, išskirti esminius jos elementus, numatyti įvykių eigą, sudaryti veikimo planą ir jį įgyvendint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200" spc="-1" strike="noStrike">
                <a:solidFill>
                  <a:srgbClr val="330033"/>
                </a:solidFill>
                <a:latin typeface="Tahoma"/>
              </a:rPr>
              <a:t>Raidos periodizacij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002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Prenatalinis perio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Kūdikystė (nuo gimimo iki 1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Ankstyvoji vaikystė (1-3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Ikimokyklinis amžius (3-6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Jaunesnysis mokyklinis amžius (6-1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Paauglystė (10-16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Jaunyst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vyresnysis mokyklinis amžius (15-17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antrasis jaunystės laikotarpis (17-2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Br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pirmasis laikotarpis (21-35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antrasis laikotarpis (35-6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Pagyvenęs amžius (60-75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Senatvė (75-9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Ilgaamžystė (90 ir daugiau metų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SICHINIS VYSTYMASI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inis vystymasis – pažinimo, emocinių – motyvacinių procesų ir asmenybės vysty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Žmogaus raidos aspekta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Fizin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ognityvin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osocialinis aspekt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Kūdikystė (10 d. – 1 m.)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Sensomotorinis intelekt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Aktyvumą skatina įvairūs fiziologiniai poreikiai, pasaulio pažinimas vyksta per jutimo organų lavėjimą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Kalbos raid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: čiauškėjim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Psichosocialinis vystymas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: šypsojimasis/juokas, verkimas, emocijos, temperamentas. Prieraišumo formavimasis (J. Bowlby, Lorencas, M. Ainsworth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ierašumo charakteristikos </a:t>
            </a: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(pg. J.Bowlby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Artumo palaikym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augus “roju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augi platforma/baz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Išsiskyrimo neri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13744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Vaikų intelekto raidos stadijos </a:t>
            </a:r>
            <a:br>
              <a:rPr sz="38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(pg. J.Piaget)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Sensomotorinė stadija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0-2m). Vaikas turi refleksinį elgesį, jį po truputį keičia sudėtingesnė veikla. Su aplinka susipažįsta per jutimus, judesius. Savęs dar neskiria nuo aplink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Priešoperacinio mąstymo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2-7m) Vaikas pradeda naudotis kalba ir simboliais. Mąstymui būdingas egocentriškumas, jis negali suprasti kito žmogaus perspektyvos. Pradeda suprasti loginius ryšius, sugeba skirstyti objektus į klases, įsisąmonina tvermės dėsnį. Ryškėja simbolinis mąstyma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Konkrečių operacijų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7-11m). Vaikas ima suprasti priežasties-pasekmės ryšius, suvokia laiko, kiekio, masės, ilgio sąvokas. Mąstymas išlieka konkretus, gali suprasti tik veiksmus su konkrečiais daikta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Formalių operacijų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11-14m). Mąstymas logiškas, mokslinis (t.y. keliamos hipotezės, jos tikrinamos, siekiama tam tikrų tikslų) naudojamos abstrakcij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Postformalių operacijų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14 ir daugiau m.) – pats autorius neskyrė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3:25:21Z</dcterms:created>
  <dc:creator>vplc</dc:creator>
  <dc:description/>
  <dc:language>en-US</dc:language>
  <cp:lastModifiedBy> </cp:lastModifiedBy>
  <dcterms:modified xsi:type="dcterms:W3CDTF">2007-09-12T21:49:38Z</dcterms:modified>
  <cp:revision>21</cp:revision>
  <dc:subject/>
  <dc:title>Slide 1</dc:title>
</cp:coreProperties>
</file>