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628F-A07F-4ACD-B2F7-DC70DF3F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12B5-3ECD-402E-81FA-2B7ED2F1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247E-DE76-4EB4-BA54-2DCD6BFA1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6388-28F3-48BE-8AB4-51A906768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F470-0B65-4CF8-B402-9D6E4FE0F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1DDD-AA1B-4F6B-BB8E-366EA8B9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EC1F-6159-4D50-83A3-99DC4970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3065-37D6-40C0-876D-ABFC2E4C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0E94-D826-4E7B-8412-35242CF6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0EE8-E5CF-4388-94A9-A921126B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603A-6657-45FA-BA8E-F947C0AD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4AF9-D942-4BAD-A3DF-4EB28BE9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D56C-8866-463E-9FF0-D0ACC65A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4B63-04BF-47AA-B5E3-75412543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3A7C-7777-469C-AD15-80C13FB8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DF8B-51A6-4507-9950-01C33C01F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769E-03DC-42A7-97E9-2171FE121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5C72B-B645-40C9-92EA-62207679A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0C48D-02F7-4052-936E-FE4FFF66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73F6A-9218-4004-971E-D9B3710E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761EF-7865-487E-A988-22009A2E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7BF87-E35D-4A20-B025-E0F5D0C1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0DC6-BF1F-4EF7-9592-84E91BCB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BEF4B-9C76-489A-8FA0-023648DD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A823F-7A1A-4F12-943B-880AB9C1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51ED1-BB0A-4163-BEF4-A9B0D0B8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4B139-0B54-4205-85E2-2A851754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E64F6-F1C1-4A70-B369-85385DC8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E022F-7CED-45CF-8030-EF387102C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03767-0A4B-43F6-9E14-FFF80529F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C815B-61D8-44D9-BDFD-5B3FFE1EC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9C4AE-8D4E-457F-A81C-D4D9DAB4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62CB5-D5BB-4D5A-87B4-D725A27F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2008-946D-4F0F-929A-B4FDC18B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506F8-5DB9-4FBC-BDDD-099C202F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EF53B-8DF3-4ADF-81A3-E74FD398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5870F-5906-4089-9F7C-4BCE42E1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AD094-C9B5-4BFF-B90F-D80BC3E8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16EDF-7501-4C40-8AA6-A8011BDC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B7797-CD27-4461-A2F5-3626B424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7ED4E-9ED7-4318-9BC1-CF8C2550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62DA1-DF15-4257-9DB5-0521ECD5F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AB7A6-B74C-43B1-9433-819850DD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EFC0-5BA1-4A23-AFD4-04B248B3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C03C-4ECC-46E6-B28B-4350EACB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8112-A817-45AD-AB95-390A0CAA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7BD9-CB8E-4BBD-9BC3-4DC48BE6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5984-D12A-4626-8C5E-B1B78BFF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DB4B-C659-4DDC-B630-F32FD9B9CB36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51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96DE-0952-4BE2-9751-B38C1CC7680F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98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5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7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08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09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10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7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9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0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1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2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46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147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8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9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0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1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2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3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4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5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6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7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8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59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95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96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8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8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209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216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1" name="PlaceHolder 1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B700-26CE-4970-BD65-4E51F550C130}" type="slidenum">
              <a:rPr b="0" lang="lt-L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263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0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2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273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74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275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6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7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8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9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3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4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5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6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7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0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1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2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3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4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9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0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2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3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4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5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6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7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8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9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0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11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312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3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4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5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6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7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8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9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0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1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2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3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24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5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0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1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2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3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4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5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6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7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8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9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0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1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2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3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4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5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6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7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8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9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0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1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2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3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4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5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6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7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8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9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360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361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3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73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374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0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381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DAE8-D546-4A09-BD96-4CA42069E434}" type="slidenum">
              <a:rPr b="0" lang="lt-L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1143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33"/>
                </a:solidFill>
                <a:latin typeface="Times New Roman"/>
              </a:rPr>
              <a:t>PSICHOLOGIJOS </a:t>
            </a:r>
            <a:r>
              <a:rPr b="0" lang="lt-LT" sz="4000" spc="-1" strike="noStrike">
                <a:solidFill>
                  <a:srgbClr val="330033"/>
                </a:solidFill>
                <a:latin typeface="Times New Roman"/>
              </a:rPr>
              <a:t>TYRIMŲ </a:t>
            </a:r>
            <a:r>
              <a:rPr b="0" lang="en-US" sz="4000" spc="-1" strike="noStrike">
                <a:solidFill>
                  <a:srgbClr val="330033"/>
                </a:solidFill>
                <a:latin typeface="Times New Roman"/>
              </a:rPr>
              <a:t>METODAI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Tyrimo etapai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yrimo klausimas, probl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Formuojama hipotez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yrimo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uomenų rinkimo būdo planavimas – tyrimo technikos ir strategijos pasirinki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yrimo atlikimas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– duomenų surinki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uomenų analizė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švadų dary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Tyrimo technikos: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vejo analiz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tebėj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pklausos (žodžiu, raš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estav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0033"/>
                </a:solidFill>
                <a:latin typeface="Tahoma"/>
              </a:rPr>
              <a:t>ATVEJO ANALIZĖ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no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r kelių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vej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yrima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šsam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ng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prantant retus atvej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rastas reprezentatyv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alizavimo sunkum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lus darbui ir laik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r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ėjo šališk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STEBĖJIMAS 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Organizuotas, tikslingas tam tikrų reiškinių suvok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rivalum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Betarpiškum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Natūrali aplink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Kai tiriamieji negali verbaliai išreikšti to, ko reik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Kai tiriamieji nenori kalbėti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Galimybė atsižvelgti į natūralų kontekstą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Išorinio stebėjimo tipai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300" spc="-1" strike="noStrike">
                <a:solidFill>
                  <a:srgbClr val="000000"/>
                </a:solidFill>
                <a:latin typeface="Arial"/>
              </a:rPr>
              <a:t>Stebėjimas neįsikišant/</a:t>
            </a: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natūraliomis sąlygom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300" spc="-1" strike="noStrike">
                <a:solidFill>
                  <a:srgbClr val="000000"/>
                </a:solidFill>
                <a:latin typeface="Arial"/>
              </a:rPr>
              <a:t>Stebėjimas įsikišant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Eksperimentinis/laboratorinis stebėji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truktūruotas/išprovokuotas stebėj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tebėjimas dalyvauj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Klinikinis stebėj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APKLAUSOS ir jų formos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truktūruotas/laisvas/pusiau struktūruotas pokalb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aštu/žodž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viri/uždari klausimai, Likert’o tipo skalė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Apklausų trūkumai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enoras atsakyti, sąmoningai nuslėp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ocialinio pageidaujamumo reiškin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eflektyvumo sto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minties įtaka praeities įvykių atgaminim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lausimo nesuprat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Testavimas 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LAUSIMYN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ESTAVIMAS (nor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Testų rūšy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Žinių testa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Bendrųjų gebėjimų testa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Intelekto testa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Asmenybės testa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Projekciniai testai (Rorschachas, HTP, kinetinis šeimos piešinys, papildymo metodikos, spalvų testai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0773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PSICHOLOGIJOS TYRIMAI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al psichologijos šak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al tyrimo srit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Bazinia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Taikomiej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Susiję su psichologijos instrument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jum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al kintamųjų pobūd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Kiekybinia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Kokybinia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Bendrieji tyrimo tikslai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prašy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aiški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umaty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ontroliuo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eri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Sąvokos</a:t>
            </a:r>
            <a:r>
              <a:rPr b="0" lang="en-US" sz="4400" spc="-1" strike="noStrike">
                <a:solidFill>
                  <a:srgbClr val="330033"/>
                </a:solidFill>
                <a:latin typeface="Tahoma"/>
              </a:rPr>
              <a:t>!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yrimo technik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-  empirinių duomenų rinkimo būda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vz., testai, steb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ėjimas, apklau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r kt.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rimo strategij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 bendras tyrimo planas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(aprašomoji, koreliacinė ir eksperimentinė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yrimo metodik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- konkreti empirinių duomenų rinkimo ir jų registravimo procedūra, tiksliai nurodanti visas tyrimo sąlygas ir atliekamų veiksmų eig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(Rorschacho, HTP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-1 ir kt.)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ahoma"/>
              </a:rPr>
              <a:t>Tyrimo strategijos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šomo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- Atvejo analiz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oreliacin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Eksperimentin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KORELIACINĖ STRATEGIJA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ustato ryšį tarp dviejų ar daugiau veiksni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nurodo prie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ingu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eigiama koreliac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eigiama koreliacij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oreliacijos koeficient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+/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EKSPERIMENTINĖ STRATEGIJA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riklausomas kintam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epriklausomas kintam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iekiama nustatyti ir paaiškinti ryšio tarp nepriklausomo ir priklausomo kintamojo pobūd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Kas gali iškreipti rezultatus?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rankos kompon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cebo efekt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ai fenomenas, kai žmogaus reakciją į gydymą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(poveikį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mia ne pats gydymas, o laukima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ksperimentatoriaus šališkuma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imbar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nfordo kal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ėjimo tyr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S.Milgramo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Konformiškumo ir paklusnumo tyrim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Psichologinių tyrimų pvz:  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imbard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tanfordo kal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ėjimo tyri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Arial"/>
              </a:rPr>
              <a:t>S.Milgramo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 Konformiškumo ir paklusnumo tyrim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1:26:52Z</dcterms:created>
  <dc:creator>SPPS2</dc:creator>
  <dc:description/>
  <dc:language>en-US</dc:language>
  <cp:lastModifiedBy> </cp:lastModifiedBy>
  <dcterms:modified xsi:type="dcterms:W3CDTF">2007-08-29T12:38:26Z</dcterms:modified>
  <cp:revision>28</cp:revision>
  <dc:subject/>
  <dc:title>PSICHOLOGIJOS METODAI</dc:title>
</cp:coreProperties>
</file>