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37B-3C5F-48C1-874C-04984565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6F1-9AFB-4BFC-929A-0310F054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1A6-55E6-4907-9B0B-CFD23B1B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7F9-4972-4D6E-B03A-6E5E3528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0291-BCB8-4AD3-848A-F0CA42C3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181C-12EB-4202-881B-88C6FF3F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0E37-B543-45EA-9FD6-76378176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8EC0-7861-4A53-80C3-A3BBED64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5BC4-F8C0-41A0-B7A8-FF61B064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0C79-C749-4301-975D-B48FDD47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39B3-2562-444D-8A2A-6AD79CC3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E9E-F037-4FD7-8F78-9B698BEC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7344-8105-4B6C-8F3A-C5E561AC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5F14-0351-4BE7-9996-7AC9C660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E734-DA75-450B-8852-D6730F81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0018-5C03-4CC3-A31F-C269B732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5E24-713C-4525-B955-48E934A3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8A9-0013-4B96-96F3-22C022A3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AFD-7C14-4F04-89EC-9AC76C58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D47-C443-40F5-BC4F-5E60136C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A34-A40B-4103-B53A-1F6472F4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F33-17B1-4C21-8348-23BA5DD5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EF8-DE42-405D-B2FE-AC7D581E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0A8-C4C7-46BE-A93A-A9AF8FF7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1BA2-B4D8-4A4D-A1EE-30AED4C893AC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5230-82D7-4A27-A07C-CCE255E1FCCB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SI</a:t>
            </a:r>
            <a:r>
              <a:rPr b="0" lang="lt-LT" sz="4200" spc="-1" strike="noStrike">
                <a:solidFill>
                  <a:srgbClr val="330033"/>
                </a:solidFill>
                <a:latin typeface="Times New Roman"/>
              </a:rPr>
              <a:t>CHOLOGIJOS ĮVAD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okt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a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1593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1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54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40000" y="404640"/>
            <a:ext cx="63468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hn Watso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Psichologija biheivioristo požiūriu“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IVEIVIOR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raham Maslow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Motyvacija ir asmenybė”.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rl Roger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HUMAN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ktor Frank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laikomas egzistencinės psichologijos pradinin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GZISTENCIAL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os raida Lietuvoje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6m. – VPU prad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ėta ruošti psichologus (katedros vadovas A.Guč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9m. – V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3m. – specialiosios psichologijos laborator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m. – Lietuvos psicholog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 sąjung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APIBRĖŽIMAS IR OBJEKTAS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mokslas, tiriantis psichikos faktus, nustatantis dėsnius ir kuriantis jų aiškinimo 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os mokslo objektas 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 ir jos reiškinia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a tyrinėja: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lges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id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žinimo proce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dividualius skirtu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į elges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TEORINĖS PSICHOLOGIJOS SRITY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endro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ė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idos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Zoo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opsichologija ir 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PRAKTINĖS PSICHOLOGIJOS SRITY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inikin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Organizacinė psichologija (darb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edagoginė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porto, reklamos, teisės ir k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PSICHOLOGIJOS MOKSLO IŠTAKO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ligija, mitologija, filosof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enovės Rytų tautų psichologinės pažiū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ntikinė psicholo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iduramžių psicholog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os istorija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1778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60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79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340000" y="1905120"/>
            <a:ext cx="6346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rnst Web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ustav Fechn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psichofizikiniu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yrinėji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r Francis Galton  -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ėgino vertinti intelektą, pradėjo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vynių tyrimu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Wilhelm Wund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įkūrė pirmąją psichologijos laboratoriją Leipcige, Vokietijoje, kur pradėjo taikyti mokslinius metodus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RUKTŪRAL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173844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85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90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0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24000" y="404640"/>
            <a:ext cx="7020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man Ebbinghau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ociacijų dėsniai, atminties tyrinėjim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William James -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irmasis psichologijos vadovėlis ,,Psichologijos principai” (2 toma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UNKCIONALIZ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gmund Freud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Sapnų aiškinim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SICHODINAMINĖ PSICH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159372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5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6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12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11280" y="404640"/>
            <a:ext cx="62755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lfred Bine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heodore Simo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sukuria I-ąjį intelekto te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usų fiziologas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van Pavlov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klasikinio sąlygojimo eksperimentai su gyvūn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ax Wertheimer, Wolfgang Köler, Kurt Koffka –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vokimo tyrim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EŠTALTINĖ PSICHOLOG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1:47:41Z</dcterms:created>
  <dc:creator>vplc</dc:creator>
  <dc:description/>
  <dc:language>en-US</dc:language>
  <cp:lastModifiedBy> </cp:lastModifiedBy>
  <dcterms:modified xsi:type="dcterms:W3CDTF">2007-09-03T19:46:20Z</dcterms:modified>
  <cp:revision>20</cp:revision>
  <dc:subject/>
  <dc:title>PSICHOLOGIJOS ĮVADAS</dc:title>
</cp:coreProperties>
</file>