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841-757A-4FCA-B11B-CC5F39D2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A23-823E-4406-8824-16F20C40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7CA-F222-47E4-AA4C-AE2D3D84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36D-2BA0-49DF-A5C1-89258F75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667C-EA9E-463D-A60F-9BCD8F90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817-FC35-4612-B83F-DD84E9E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B5A6-D487-4DFB-A3D9-0F8D7A19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25BF-4523-4EB1-9290-37DA695F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E687-403B-419E-B64C-365E28D3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02FA-3C22-4861-85DA-05D6CCFA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9D50-DBF7-4A2C-9629-C7079F50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B1B-62FD-469C-977B-AEAC95E9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BFE5-FB66-4FB7-A9CE-0BEADBA1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B146-272F-4551-96E3-6B6F7BA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8521-EA37-466A-8D51-D4EFC810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2FB1-0E5C-4078-BA6E-2862596B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0F10-9073-4810-8B88-6ACDF65A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97B49-940B-46FE-868A-665ABD99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D607E-2199-4471-A055-AFD38A41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835A-9D1F-4B7E-911E-169CB39F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72BB-59D4-40AE-A572-313D8D5C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8472D-B451-4999-9DC9-DE11409D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79F-4909-487D-BD5C-9BCC050E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A901-F56B-4399-84C5-C4941225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3340-5652-4BBF-98DF-E6D83BD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6AFF-FA8E-49C4-A207-5A88D6A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583A-F896-4F7F-B281-96BF6614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FC8C-A39C-416D-A84A-30D2892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960E-9818-41B8-A191-A0930849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2D1E-662E-4C63-A844-2A3DEA6B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1D61-EE85-4447-B801-C5981A4F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EBD9F-7F92-4632-BAEB-EEE0AF12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8051-6C8B-4F6A-BAB2-CF2E2E33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3A5-3E6A-449F-9492-CB6FDAF0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F515-58FC-4C28-A19E-DFEE811E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3FBF-5A61-46E2-A528-E9790455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66F0-76E0-42CF-A499-27A27769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D60C-A86C-45F5-A7E2-A3C47D28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37C1-0983-4B24-8BD0-63D72BA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7AB9-9051-4878-9CB3-72657179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173F-7503-4188-9802-577DC946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A3CF-24CB-403C-9FB1-096BDD59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DBB7B-6E65-41E6-95A1-33571687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29E-1DB2-404F-A7BA-DD39309D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A24-29A6-4AA6-8821-ABC92B8C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319-7148-4867-88D8-A593F99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336-CF91-4F48-A429-380C757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A6A-6378-4D3D-8239-800375FB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24DE-D3E9-4C08-B807-B0A9A8BD06F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E958-1B4B-4975-937F-6EE5AF67476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9FA-885F-4176-8E13-88DE4D764856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EE35-3FB0-4FB2-841D-5DD338087867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PSICHOLOGIJOS </a:t>
            </a:r>
            <a:r>
              <a:rPr b="0" lang="lt-LT" sz="4000" spc="-1" strike="noStrike">
                <a:solidFill>
                  <a:srgbClr val="330033"/>
                </a:solidFill>
                <a:latin typeface="Times New Roman"/>
              </a:rPr>
              <a:t>TYRIMŲ 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METODAI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etap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klausimas,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uojama hipote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rinkimo būdo planavimas – tyrimo technikos ir strategijos pasi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atlik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duomenų su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analiz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vadų dar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technikos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ebė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klausos (žodžiu, ra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TVEJO ANALIZĖ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no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r keli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vej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r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ng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rantant retus atve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astas reprezentat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alizavimo sunk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us darbui ir laik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jo šal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STEBĖJ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rganizuotas, tikslingas tam tikrų reiškinių suvo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etarpišku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 aplin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gali verbaliai išreikšti to, ko reik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nori kalbėt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alimybė atsižvelgti į natūralų kontekst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Išorinio stebėjimo tipai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neįsikišant/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omis sąlygom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įsikiša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ksperimentinis/laboratorinis stebėj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uktūruotas/išprovokuota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ebėjimas dalyvauj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linikini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APKLAUSOS ir jų form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ruktūruotas/laisvas/pusiau struktūruotas pokal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štu/žodž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iri/uždari klausimai, Likert’o tipo ska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Apklausų trūku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noras atsakyti, sąmoningai nuslėp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o pageidaujamumo reišk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flektyvumo st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įtaka praeities įvykių atgamin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usimo nesupra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stav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Y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STAVIMAS (nor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estų rūš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Žini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endrųjų gebėjim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Intelekto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Asmenybės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Projekciniai testai (Rorschachas, HTP, kinetinis šeimos piešinys, papildymo metodikos, spalvų testai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JOS TYRI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sichologijos ša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tyrimo sr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az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Taikomie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ję su psichologijos instrumen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ju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kintamųjų pobūd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ie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Bendrieji tyrimo tiksl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aišk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mat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troliuo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er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Sąvokos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techn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 empirinių duomenų rinkimo būd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vz., testai, ste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jimas, apklau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r k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rimo strate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 bendras tyrimo plan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aprašomoji, koreliacinė ir eksperimentin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konkreti empirinių duomenų rinkimo ir jų registravimo procedūra, tiksliai nurodanti visas tyrimo sąlygas ir atliekamų veiksmų eig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Rorschacho, H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1 ir kt.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Tyrimo strategijo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om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perimentin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ORELIAC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o ryšį tarp dviejų ar daugiau veiksn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urodo pri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ing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igiama korelia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giama korelia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jos koeficie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/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EKSPERIMENT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ekiama nustatyti ir paaiškinti ryšio tarp nepriklausomo ir priklausomo kintamojo pobūd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as gali iškreipti rezultatus?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ankos kompon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bo efek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ai fenomenas, kai žmogaus reakciją į gydym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oveikį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mia ne pats gydymas, o lauki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sperimentatoriaus šališku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nių tyrimų pvz:  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1:26:52Z</dcterms:created>
  <dc:creator>SPPS2</dc:creator>
  <dc:description/>
  <dc:language>en-US</dc:language>
  <cp:lastModifiedBy> </cp:lastModifiedBy>
  <dcterms:modified xsi:type="dcterms:W3CDTF">2007-08-29T12:38:26Z</dcterms:modified>
  <cp:revision>28</cp:revision>
  <dc:subject/>
  <dc:title>PSICHOLOGIJOS METODAI</dc:title>
</cp:coreProperties>
</file>