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B08-A538-4F7C-BAF0-0C94A379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25B-56E6-4379-A930-298C2F97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FCC-CB97-420A-A42E-3388E2AC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A2E-20CD-43E6-B543-6F03210E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3E50-5EA5-4603-86A1-71B9562B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2979-E942-4D1F-B474-83B5F59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11BD-2103-4484-8D08-BB1B52D0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BB02-80F5-4655-95DB-73DBA720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E06-5B97-4E8E-BE84-1B9F43E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2AFF-AD95-4211-877F-C5BADDCB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8E22-B38A-4071-9D7C-5E9CF9A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C4C-649B-4F81-808E-F80FCFF9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FA26-6888-4CD3-935B-9B692C1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E7C3-8E19-4FF4-914E-A71E375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C5A9-B714-475C-8C5A-45A91A5D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7374-396E-4ACD-B870-A9A04B34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B31F-79C3-4B3E-BE41-4E5A2658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613-1723-4162-B4E1-5657D2C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DCE-4614-40AA-95D8-39EFCEF0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AEB-8497-4019-B8DF-788A4CF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512-C9F7-415A-AF36-7288FE2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168-C664-4EC1-B3B4-65AA234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FB7-63E7-49DB-9BD7-048E990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510-658F-422C-9BED-54EA01A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F7D0-6452-45DA-A1F4-30AF1EDF0AAC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4379-6A3F-460D-9A80-23064ED2ADCD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143000"/>
            <a:ext cx="699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PAŽINIMO PROCESAI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UTIMAS IR SUVOK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PALVOS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0560" y="2643120"/>
            <a:ext cx="7548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LAUSA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mplitudė, daž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usis: vidurinė a., vidinė a., sraig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ITI JUTIMAI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yta: spaudimo, šilumos, šalčio ir skausmo derinys; Melzacko ir Wallio „vartų kontrolės“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onis: saldu, rūgštu, sūru ir kar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osl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ūno padėtis ir judėjimas - ki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okinys - sąmonėje susiformavęs daikto, reiškinio ar įvykio visumos atspind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ercepcija – patyrimo įtaka suvok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NIO KŪRIMA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suvokimas: grupavimo taisyklės (artumas, panašumas, ištisumas, uždarumas, susietu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0421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5280" y="3305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  <a:ea typeface="Arial"/>
              </a:rPr>
              <a:t>Fonas - fig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Laiko 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is laiko interval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mažiausias tarp dviejų įvykių juntamas laiko tar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tuacijos pobū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ty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mžiaus fak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ylio suvokimas: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trimačių objektų matyma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inokuliniai signalai: atvaizdų skirtumas tinklainėse, akių konverg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nokuliniai signalai: santykinis dydis, sanklota, oro perspektyva, tekstūros gradientas, santykinis judėjimas, tiesinė perspektyva, santykinis skaistis, santykinis aukš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16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MO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ir 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nz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498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NIO ĮPRASM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ulller-Lyeri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statos, apercepcijos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8289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://www.michaelbach.de/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280" y="1447560"/>
            <a:ext cx="8676720" cy="3392640"/>
            <a:chOff x="179280" y="1447560"/>
            <a:chExt cx="8676720" cy="3392640"/>
          </a:xfrm>
        </p:grpSpPr>
        <p:cxnSp>
          <p:nvCxnSpPr>
            <p:cNvPr id="100" name="_s34830"/>
            <p:cNvCxnSpPr>
              <a:stCxn id="101" idx="1"/>
              <a:endCxn id="102" idx="2"/>
            </p:cNvCxnSpPr>
            <p:nvPr/>
          </p:nvCxnSpPr>
          <p:spPr>
            <a:xfrm rot="10800000">
              <a:off x="2908800" y="2424960"/>
              <a:ext cx="283320" cy="21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4829"/>
            <p:cNvCxnSpPr>
              <a:stCxn id="104" idx="1"/>
              <a:endCxn id="102" idx="2"/>
            </p:cNvCxnSpPr>
            <p:nvPr/>
          </p:nvCxnSpPr>
          <p:spPr>
            <a:xfrm rot="10800000">
              <a:off x="2908800" y="2424960"/>
              <a:ext cx="283320" cy="132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4828"/>
            <p:cNvCxnSpPr>
              <a:stCxn id="106" idx="1"/>
              <a:endCxn id="102" idx="2"/>
            </p:cNvCxnSpPr>
            <p:nvPr/>
          </p:nvCxnSpPr>
          <p:spPr>
            <a:xfrm rot="10800000">
              <a:off x="2908800" y="2424960"/>
              <a:ext cx="283320" cy="51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34824"/>
            <p:cNvSpPr/>
            <p:nvPr/>
          </p:nvSpPr>
          <p:spPr>
            <a:xfrm>
              <a:off x="179280" y="1447560"/>
              <a:ext cx="5461560" cy="9781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Ų STIMULŲ POVEIK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3192480" y="265428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VED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6"/>
            <p:cNvSpPr/>
            <p:nvPr/>
          </p:nvSpPr>
          <p:spPr>
            <a:xfrm>
              <a:off x="3192480" y="3459240"/>
              <a:ext cx="5663520" cy="57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APDOROJ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27"/>
            <p:cNvSpPr/>
            <p:nvPr/>
          </p:nvSpPr>
          <p:spPr>
            <a:xfrm>
              <a:off x="3192480" y="426384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PRASMIN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GRINDINĖS 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utim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procesas, primityviai atspindintis daiktų ir reiškinių savybes ar organizmo vidinę būseną, kai tai tiesiogiai veikia jutimo orga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jūtis (jutimo proceso rezultat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adekvatus dirgiklio, arba stimulo, vaizdas mūsų smegen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vok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psichinis procesas, daikto ar reiškinio vaizdo formavi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ensorinės sistemos -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istemos, kurios priima išorinius signalus, atlieka jų analizę ir priima sprendimą, koks objektas veikia jų įėj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ojūčių skirstymas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sensorinės sistemo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viesos (reg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stinius (klau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nius (uoslė, skon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tilinius (ly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motorinius (vestibiul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usmo, temperatūros, vidinės organizmo būse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o lauko(?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trasensorinius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BENDRIEJI POJŪČIŲ YPATUM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al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ruk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tentinis la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imtis, tan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utris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akomas pojūčių slenksči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OJŪČIŲ SLENKSČ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us žemutinis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mažiausias dirginimas, kurios reikia konkrečiam dirgikliu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kislenkstinis dirg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umo arba skyrimo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mažiausias dviejų dirgiklių skirtumas, kurį 50 % atvejų gal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ėberio dėsn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skirtumo slenkstis yra ne pastovus kiekis, bet tam tikras pastovus dirgiklių santy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timų adap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REG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zdys, rainelė, lęšiukas, akomodacija, tinklainė, stiebeliai (lazdelės), kūgeliai, akloji dėmė, regos nervas, požymių detektor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676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EGA: SPALVŲ SUVOK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oungo ir Helmholtzo trijų spalvų teor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tinklainėje yra 3-jų rūšių spalvos receptorių: kiekvienos jų receptoriai yra ypač jautrūs vienai iš trijų spalvų (žalia, mėlyna, raud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ponentinių procesų teorija (Hering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palikusi receptorius, regimoji informacija toliau analizuojama priešingų spalvų požiūri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800" spc="-1" strike="noStrike">
                <a:solidFill>
                  <a:srgbClr val="330033"/>
                </a:solidFill>
                <a:latin typeface="Tahoma"/>
              </a:rPr>
              <a:t>Oponentinių procesų teorija (pvz.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08280" y="1692360"/>
            <a:ext cx="61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53:02Z</dcterms:created>
  <dc:creator>TADAS</dc:creator>
  <dc:description/>
  <dc:language>en-US</dc:language>
  <cp:lastModifiedBy> </cp:lastModifiedBy>
  <dcterms:modified xsi:type="dcterms:W3CDTF">2007-09-13T22:08:20Z</dcterms:modified>
  <cp:revision>24</cp:revision>
  <dc:subject/>
  <dc:title>Slide 1</dc:title>
</cp:coreProperties>
</file>