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87BC-9DEB-40E5-9770-D7D073F68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AA08-2714-4783-A2FA-B4FFF333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A2AB-FA7A-42A3-953C-A3D24AEA8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4707-0289-4EA6-B370-5A8166015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677C-755A-43DF-9585-F80A2E794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393C-AC6E-4D93-9700-4B76BBC0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CE19-982D-4913-AE87-E1847507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C349-83F7-40A7-AB08-BE886F39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7228-5C2F-4252-B37F-4296358A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77B6-7A85-4600-A311-0F308751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1B59-10AE-4C36-8A45-646F7F37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2B61-199C-4719-993F-9CDD4AE0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470A-4EB1-4BE0-A432-13BACA59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FD61-8CB4-431A-A837-29817C04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D128-338A-4ED9-BCFB-CDF8D6B4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7DEE-B9F3-4E5D-9770-CDF43849E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7C6A-CB52-44EE-93D2-E9B99238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AA53-16F5-4FC2-B02C-EF9C2909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1EE3-B12D-45C3-B7F8-25010689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9677-B619-48D9-96F1-067811A9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0F37-B5B4-4DA8-A339-F735EF5D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4E0F-DB04-40BF-980A-EEEBEA5C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AD1A-7104-43C0-A954-5FDC68F0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B040-6A2A-4755-BE8F-789A1D63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D48E-9676-41E6-88B9-0591C614A795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6C0B-3BAF-48C7-80CA-B2D297E553E3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ahoma"/>
              </a:rPr>
              <a:t>PSICHIKOS RAIDA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Psichikos ontogenezė ir filogenezė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Žmogaus raidos periodizacija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E.ERIKSONO PSICHOSOCIALINĖS RAIDOS TEORIJA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Saugumas – nesauguma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nuo gimimo iki 1 metų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Autonomiškumas – gėda, abejonė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1-3 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Iniciatyvumas – kaltė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3-6 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Meistriškumas – menkavertiškuma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7-11 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Tapatumas – vaidmenų neaiškuma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paauglystė, 11 – 20 m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Intymumas – izoliacija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jaunystė, 21 –2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Atsinaujinimas – sąstingi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vidutinis amžiu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Integracija (pilnatvė) – nevilti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senatvė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Raidos KRIZĖS 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utrieji individualios raidos periodai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n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v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ūs perioda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Krizės esmė – poreikių, kurie kyla kiekvieno amžiaus tarpsnio pabaigoje, nepatenkinimo rezulta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Ypatuma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ahoma"/>
              </a:rPr>
              <a:t>1) sunku atskirti krizės pradžią ir pabaigą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ahoma"/>
              </a:rPr>
              <a:t>2) mokykloje krenta bendras darbingumas, konfliktai su aplinkiniais, konfliktai viduj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ahoma"/>
              </a:rPr>
              <a:t>3) šiame periode vyst. būdingas negatyvus charakteris, vyst. atlieka tarsi griaunamąjį darbą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RAIDOS</a:t>
            </a: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 KRIZĖ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1 metų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3 metų (Aš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7 metų (perėjimas nuo ikimokyklinio amžiaus į mokyklinį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aauglystė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idutinio amžiaus (api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0m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enatvės + šeimos krizė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aauglystė ir jaunystė 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Akceleracij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Infantilizm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Didėja sugebėjimas abstrakčiai mąstyt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Padidintas emocionalum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Psichosocialinis moratorium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Filogenez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– rūšies istorinė raida, psichikos atsiradimas ir rai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Ontogenez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– žmogaus raida per jo gyvenimą. Individualus organizmo vystymasis. Ją tiria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raidos psichologij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FILOGENETINIS PSICHIKOS VYSTYMASI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8281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Kinezė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–organizmo bendro aktyvumo pasikeitimas, veikiant kuriam nors aplinkos veiksniu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Taksis 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yra kryptinga reakcija į konkretų aplinkos reiškin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Nesąlyginis refleksas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- atskiro organizmo lokali reakcija į išorinį ar vidinį dirginimą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Instinktas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- sudėtingiausias paveldėto elgesio komponentas, jam sukelti reikalinga vidinė parengtis.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Pripratimas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susijęs su viso organizmo ar atskirų jo dalių reakcijų silpnėjimu ir išnykimu, kartojantis nereikšmingam arba virtusiam nereikšmingu stimulu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Klasikinis sąlyginis refleks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Instrumentinis sąlyginis refleks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Intelektinė veikla 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įgalina orientuotis naujoje situacijoje, išskirti esminius jos elementus, numatyti įvykių eigą, sudaryti veikimo planą ir jį įgyvendint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200" spc="-1" strike="noStrike">
                <a:solidFill>
                  <a:srgbClr val="330033"/>
                </a:solidFill>
                <a:latin typeface="Tahoma"/>
              </a:rPr>
              <a:t>Raidos periodizacija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8002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Prenatalinis perio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Kūdikystė (nuo gimimo iki 1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Ankstyvoji vaikystė (1-3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Ikimokyklinis amžius (3-6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Jaunesnysis mokyklinis amžius (6-10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Paauglystė (10-16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Jaunystė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- vyresnysis mokyklinis amžius (15-17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- antrasis jaunystės laikotarpis (17-20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Bra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- pirmasis laikotarpis (21-35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- antrasis laikotarpis (35-60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Pagyvenęs amžius (60-75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Senatvė (75-90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Ilgaamžystė (90 ir daugiau metų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SICHINIS VYSTYMASI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sichinis vystymasis – pažinimo, emocinių – motyvacinių procesų ir asmenybės vystym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Žmogaus raidos aspekta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Fizin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Kognityvin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sichosocialinis aspekta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Kūdikystė (10 d. – 1 m.)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Sensomotorinis intelekta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Aktyvumą skatina įvairūs fiziologiniai poreikiai, pasaulio pažinimas vyksta per jutimo organų lavėjimą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Kalbos raida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: čiauškėjim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Psichosocialinis vystymasi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: šypsojimasis/juokas, verkimas, emocijos, temperamentas. Prieraišumo formavimasis (J. Bowlby, Lorencas, M. Ainsworth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rierašumo charakteristikos </a:t>
            </a:r>
            <a:br>
              <a:rPr sz="3800"/>
            </a:b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(pg. J.Bowlby)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Artumo palaikyma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Saugus “roju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Saugi platforma/baz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Išsiskyrimo nerim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813744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Vaikų intelekto raidos stadijos </a:t>
            </a:r>
            <a:br>
              <a:rPr sz="38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(pg. J.Piaget)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820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800" spc="-1" strike="noStrike">
                <a:solidFill>
                  <a:srgbClr val="000000"/>
                </a:solidFill>
                <a:latin typeface="Tahoma"/>
              </a:rPr>
              <a:t>Sensomotorinė stadija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(0-2m). Vaikas turi refleksinį elgesį, jį po truputį keičia sudėtingesnė veikla. Su aplinka susipažįsta per jutimus, judesius. Savęs dar neskiria nuo aplink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800" spc="-1" strike="noStrike">
                <a:solidFill>
                  <a:srgbClr val="000000"/>
                </a:solidFill>
                <a:latin typeface="Tahoma"/>
              </a:rPr>
              <a:t>Priešoperacinio mąstymo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(2-7m) Vaikas pradeda naudotis kalba ir simboliais. Mąstymui būdingas egocentriškumas, jis negali suprasti kito žmogaus perspektyvos. Pradeda suprasti loginius ryšius, sugeba skirstyti objektus į klases, įsisąmonina tvermės dėsnį. Ryškėja simbolinis mąstyma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800" spc="-1" strike="noStrike">
                <a:solidFill>
                  <a:srgbClr val="000000"/>
                </a:solidFill>
                <a:latin typeface="Tahoma"/>
              </a:rPr>
              <a:t>Konkrečių operacijų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(7-11m). Vaikas ima suprasti priežasties-pasekmės ryšius, suvokia laiko, kiekio, masės, ilgio sąvokas. Mąstymas išlieka konkretus, gali suprasti tik veiksmus su konkrečiais daiktai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800" spc="-1" strike="noStrike">
                <a:solidFill>
                  <a:srgbClr val="000000"/>
                </a:solidFill>
                <a:latin typeface="Tahoma"/>
              </a:rPr>
              <a:t>Formalių operacijų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(11-14m). Mąstymas logiškas, mokslinis (t.y. keliamos hipotezės, jos tikrinamos, siekiama tam tikrų tikslų) naudojamos abstrakcij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800" spc="-1" strike="noStrike">
                <a:solidFill>
                  <a:srgbClr val="000000"/>
                </a:solidFill>
                <a:latin typeface="Tahoma"/>
              </a:rPr>
              <a:t>Postformalių operacijų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(14 ir daugiau m.) – pats autorius neskyrė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3:25:21Z</dcterms:created>
  <dc:creator>vplc</dc:creator>
  <dc:description/>
  <dc:language>en-US</dc:language>
  <cp:lastModifiedBy> </cp:lastModifiedBy>
  <dcterms:modified xsi:type="dcterms:W3CDTF">2007-09-12T21:49:38Z</dcterms:modified>
  <cp:revision>21</cp:revision>
  <dc:subject/>
  <dc:title>Slide 1</dc:title>
</cp:coreProperties>
</file>