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7AD-C795-45D3-8CAD-2907D8C1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1DA-3ADB-4DFD-A0E1-B51FDBD5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2F7-1748-4EDE-BE18-D10272DB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C4B-3B54-4F1B-AC07-E79C8102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58DB-F52F-45A1-949D-A9A72555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2F60-A8D0-4F92-946E-C5BCF853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C39A-B499-4BBC-829F-AF7AED85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024C-B816-4A03-9B14-FAA012B8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E0A9-F421-4825-88C4-F4A24CC2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BA68-C526-404F-A4B2-F2D1F3BA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3FB5-032C-4023-8DCB-40860717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981-026B-4BD5-AB16-8E163822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CD10-1B8A-41ED-AEEA-0CA97BB4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6C33-83C1-49AD-A623-774B5450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CBD2-E3A1-413D-AFEF-11CACC45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095C-19DF-4B54-A481-512C1F67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329D-1EEE-44E8-BA3D-99D3EE8B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FE17-EC84-431E-A4CF-F9DEED42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104-9271-4C78-A6C5-5E597D89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83B-D644-421C-8A6F-A593FE5F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51E-BA42-4617-8D82-86CE8AD1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344-AFF9-4827-AE76-7893B27B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FD5-A54E-4C33-8901-97AD815B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0F3-A727-4E5B-8617-E2ADEF20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24E9-A203-4130-BEBC-C3FB4B4EF4BD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881C-2401-462B-8331-635282F4D30E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ahoma"/>
              </a:rPr>
              <a:t>MĄSTYMAS IR KALBA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ėjimas ir j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monių bendravimas, remiantis kalbos ženklų sistema, vadinamas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kalbėjimu.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829960" y="3339720"/>
            <a:ext cx="3482280" cy="2956680"/>
            <a:chOff x="2829960" y="3339720"/>
            <a:chExt cx="3482280" cy="2956680"/>
          </a:xfrm>
        </p:grpSpPr>
        <p:cxnSp>
          <p:nvCxnSpPr>
            <p:cNvPr id="123" name="_s48134"/>
            <p:cNvCxnSpPr>
              <a:stCxn id="124" idx="1"/>
              <a:endCxn id="125" idx="2"/>
            </p:cNvCxnSpPr>
            <p:nvPr/>
          </p:nvCxnSpPr>
          <p:spPr>
            <a:xfrm rot="10800000">
              <a:off x="3959640" y="5063040"/>
              <a:ext cx="229320" cy="101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48135"/>
            <p:cNvCxnSpPr>
              <a:stCxn id="127" idx="1"/>
              <a:endCxn id="125" idx="2"/>
            </p:cNvCxnSpPr>
            <p:nvPr/>
          </p:nvCxnSpPr>
          <p:spPr>
            <a:xfrm rot="10800000">
              <a:off x="3959640" y="5063040"/>
              <a:ext cx="229320" cy="39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48136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107680" y="4170240"/>
              <a:ext cx="172080" cy="822600"/>
            </a:xfrm>
            <a:prstGeom prst="bentConnector3">
              <a:avLst>
                <a:gd name="adj1" fmla="val 49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48137"/>
            <p:cNvCxnSpPr>
              <a:stCxn id="125" idx="0"/>
              <a:endCxn id="130" idx="2"/>
            </p:cNvCxnSpPr>
            <p:nvPr/>
          </p:nvCxnSpPr>
          <p:spPr>
            <a:xfrm flipH="1" flipV="1" rot="5400000">
              <a:off x="4285440" y="4170240"/>
              <a:ext cx="172080" cy="822960"/>
            </a:xfrm>
            <a:prstGeom prst="bentConnector3">
              <a:avLst>
                <a:gd name="adj1" fmla="val 49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48138"/>
            <p:cNvCxnSpPr>
              <a:stCxn id="130" idx="0"/>
              <a:endCxn id="133" idx="2"/>
            </p:cNvCxnSpPr>
            <p:nvPr/>
          </p:nvCxnSpPr>
          <p:spPr>
            <a:xfrm flipV="1" rot="16200000">
              <a:off x="4590360" y="3836520"/>
              <a:ext cx="173880" cy="210960"/>
            </a:xfrm>
            <a:prstGeom prst="bentConnector3">
              <a:avLst>
                <a:gd name="adj1" fmla="val 493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48139"/>
            <p:cNvCxnSpPr>
              <a:stCxn id="135" idx="0"/>
              <a:endCxn id="133" idx="2"/>
            </p:cNvCxnSpPr>
            <p:nvPr/>
          </p:nvCxnSpPr>
          <p:spPr>
            <a:xfrm flipH="1" flipV="1" rot="5400000">
              <a:off x="3901680" y="3358080"/>
              <a:ext cx="173880" cy="1168560"/>
            </a:xfrm>
            <a:prstGeom prst="bentConnector3">
              <a:avLst>
                <a:gd name="adj1" fmla="val 493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48140"/>
            <p:cNvSpPr/>
            <p:nvPr/>
          </p:nvSpPr>
          <p:spPr>
            <a:xfrm>
              <a:off x="3652200" y="3339720"/>
              <a:ext cx="1838160" cy="515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Kalbėjima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48141"/>
            <p:cNvSpPr/>
            <p:nvPr/>
          </p:nvSpPr>
          <p:spPr>
            <a:xfrm>
              <a:off x="2829960" y="4028400"/>
              <a:ext cx="1149120" cy="466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din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48142"/>
            <p:cNvSpPr/>
            <p:nvPr/>
          </p:nvSpPr>
          <p:spPr>
            <a:xfrm>
              <a:off x="4208040" y="4028400"/>
              <a:ext cx="1149120" cy="466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šorin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48143"/>
            <p:cNvSpPr/>
            <p:nvPr/>
          </p:nvSpPr>
          <p:spPr>
            <a:xfrm>
              <a:off x="3252960" y="4667400"/>
              <a:ext cx="1415160" cy="39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kytin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48144"/>
            <p:cNvSpPr/>
            <p:nvPr/>
          </p:nvSpPr>
          <p:spPr>
            <a:xfrm>
              <a:off x="4897080" y="4667400"/>
              <a:ext cx="1415160" cy="39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šytini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48145"/>
            <p:cNvSpPr/>
            <p:nvPr/>
          </p:nvSpPr>
          <p:spPr>
            <a:xfrm>
              <a:off x="4189320" y="5236200"/>
              <a:ext cx="1523880" cy="443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ologa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48146"/>
            <p:cNvSpPr/>
            <p:nvPr/>
          </p:nvSpPr>
          <p:spPr>
            <a:xfrm>
              <a:off x="4189320" y="5852520"/>
              <a:ext cx="1523880" cy="443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oga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olingvistika: kalbėjimo model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381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os raidos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iheivioristinė  -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ki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N. Chomsky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biologinė teorija (,,Sintaksinės stuktūros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V.Whorf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lingvistinio reliatyvumo teori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“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alema” ar “takete”? </a:t>
            </a:r>
            <a:r>
              <a:rPr b="0" lang="lt-LT" sz="4200" spc="-1" strike="noStrike">
                <a:solidFill>
                  <a:srgbClr val="330033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379520" y="2158920"/>
            <a:ext cx="2963880" cy="2935440"/>
          </a:xfrm>
          <a:custGeom>
            <a:avLst/>
            <a:gdLst/>
            <a:ahLst/>
            <a:rect l="l" t="t" r="r" b="b"/>
            <a:pathLst>
              <a:path w="1275" h="1849">
                <a:moveTo>
                  <a:pt x="1083" y="600"/>
                </a:moveTo>
                <a:cubicBezTo>
                  <a:pt x="1059" y="481"/>
                  <a:pt x="1035" y="365"/>
                  <a:pt x="1003" y="248"/>
                </a:cubicBezTo>
                <a:cubicBezTo>
                  <a:pt x="988" y="194"/>
                  <a:pt x="971" y="116"/>
                  <a:pt x="931" y="72"/>
                </a:cubicBezTo>
                <a:cubicBezTo>
                  <a:pt x="894" y="31"/>
                  <a:pt x="853" y="28"/>
                  <a:pt x="811" y="0"/>
                </a:cubicBezTo>
                <a:cubicBezTo>
                  <a:pt x="771" y="5"/>
                  <a:pt x="729" y="3"/>
                  <a:pt x="691" y="16"/>
                </a:cubicBezTo>
                <a:cubicBezTo>
                  <a:pt x="650" y="30"/>
                  <a:pt x="620" y="95"/>
                  <a:pt x="595" y="120"/>
                </a:cubicBezTo>
                <a:cubicBezTo>
                  <a:pt x="522" y="193"/>
                  <a:pt x="432" y="250"/>
                  <a:pt x="363" y="328"/>
                </a:cubicBezTo>
                <a:cubicBezTo>
                  <a:pt x="221" y="487"/>
                  <a:pt x="369" y="314"/>
                  <a:pt x="251" y="472"/>
                </a:cubicBezTo>
                <a:cubicBezTo>
                  <a:pt x="189" y="554"/>
                  <a:pt x="101" y="635"/>
                  <a:pt x="67" y="736"/>
                </a:cubicBezTo>
                <a:cubicBezTo>
                  <a:pt x="70" y="904"/>
                  <a:pt x="0" y="1099"/>
                  <a:pt x="91" y="1240"/>
                </a:cubicBezTo>
                <a:cubicBezTo>
                  <a:pt x="144" y="1323"/>
                  <a:pt x="181" y="1321"/>
                  <a:pt x="259" y="1360"/>
                </a:cubicBezTo>
                <a:cubicBezTo>
                  <a:pt x="282" y="1371"/>
                  <a:pt x="323" y="1400"/>
                  <a:pt x="323" y="1400"/>
                </a:cubicBezTo>
                <a:cubicBezTo>
                  <a:pt x="328" y="1413"/>
                  <a:pt x="337" y="1426"/>
                  <a:pt x="339" y="1440"/>
                </a:cubicBezTo>
                <a:cubicBezTo>
                  <a:pt x="344" y="1484"/>
                  <a:pt x="297" y="1519"/>
                  <a:pt x="283" y="1560"/>
                </a:cubicBezTo>
                <a:cubicBezTo>
                  <a:pt x="288" y="1605"/>
                  <a:pt x="256" y="1679"/>
                  <a:pt x="299" y="1696"/>
                </a:cubicBezTo>
                <a:cubicBezTo>
                  <a:pt x="691" y="1849"/>
                  <a:pt x="520" y="1683"/>
                  <a:pt x="691" y="1640"/>
                </a:cubicBezTo>
                <a:cubicBezTo>
                  <a:pt x="764" y="1591"/>
                  <a:pt x="773" y="1516"/>
                  <a:pt x="827" y="1456"/>
                </a:cubicBezTo>
                <a:cubicBezTo>
                  <a:pt x="827" y="1456"/>
                  <a:pt x="892" y="1391"/>
                  <a:pt x="907" y="1376"/>
                </a:cubicBezTo>
                <a:cubicBezTo>
                  <a:pt x="915" y="1368"/>
                  <a:pt x="929" y="1366"/>
                  <a:pt x="939" y="1360"/>
                </a:cubicBezTo>
                <a:cubicBezTo>
                  <a:pt x="979" y="1338"/>
                  <a:pt x="1019" y="1312"/>
                  <a:pt x="1051" y="1280"/>
                </a:cubicBezTo>
                <a:cubicBezTo>
                  <a:pt x="1067" y="1264"/>
                  <a:pt x="1076" y="1241"/>
                  <a:pt x="1091" y="1224"/>
                </a:cubicBezTo>
                <a:cubicBezTo>
                  <a:pt x="1133" y="1177"/>
                  <a:pt x="1175" y="1132"/>
                  <a:pt x="1219" y="1088"/>
                </a:cubicBezTo>
                <a:cubicBezTo>
                  <a:pt x="1265" y="951"/>
                  <a:pt x="1275" y="853"/>
                  <a:pt x="1251" y="696"/>
                </a:cubicBezTo>
                <a:cubicBezTo>
                  <a:pt x="1249" y="683"/>
                  <a:pt x="1230" y="680"/>
                  <a:pt x="1219" y="672"/>
                </a:cubicBezTo>
                <a:cubicBezTo>
                  <a:pt x="1191" y="652"/>
                  <a:pt x="1123" y="632"/>
                  <a:pt x="1123" y="632"/>
                </a:cubicBezTo>
                <a:cubicBezTo>
                  <a:pt x="1102" y="601"/>
                  <a:pt x="1116" y="611"/>
                  <a:pt x="1083" y="600"/>
                </a:cubicBez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438280"/>
            <a:ext cx="1536840" cy="4165560"/>
          </a:xfrm>
          <a:custGeom>
            <a:avLst/>
            <a:gdLst/>
            <a:ahLst/>
            <a:rect l="l" t="t" r="r" b="b"/>
            <a:pathLst>
              <a:path w="968" h="2624">
                <a:moveTo>
                  <a:pt x="504" y="104"/>
                </a:moveTo>
                <a:cubicBezTo>
                  <a:pt x="486" y="140"/>
                  <a:pt x="469" y="183"/>
                  <a:pt x="448" y="216"/>
                </a:cubicBezTo>
                <a:cubicBezTo>
                  <a:pt x="429" y="247"/>
                  <a:pt x="395" y="272"/>
                  <a:pt x="376" y="304"/>
                </a:cubicBezTo>
                <a:cubicBezTo>
                  <a:pt x="343" y="358"/>
                  <a:pt x="327" y="411"/>
                  <a:pt x="272" y="448"/>
                </a:cubicBezTo>
                <a:cubicBezTo>
                  <a:pt x="247" y="485"/>
                  <a:pt x="227" y="540"/>
                  <a:pt x="216" y="584"/>
                </a:cubicBezTo>
                <a:cubicBezTo>
                  <a:pt x="229" y="650"/>
                  <a:pt x="236" y="619"/>
                  <a:pt x="280" y="656"/>
                </a:cubicBezTo>
                <a:cubicBezTo>
                  <a:pt x="308" y="679"/>
                  <a:pt x="314" y="695"/>
                  <a:pt x="336" y="728"/>
                </a:cubicBezTo>
                <a:cubicBezTo>
                  <a:pt x="341" y="736"/>
                  <a:pt x="353" y="737"/>
                  <a:pt x="360" y="744"/>
                </a:cubicBezTo>
                <a:cubicBezTo>
                  <a:pt x="377" y="761"/>
                  <a:pt x="391" y="783"/>
                  <a:pt x="408" y="800"/>
                </a:cubicBezTo>
                <a:cubicBezTo>
                  <a:pt x="378" y="921"/>
                  <a:pt x="318" y="1013"/>
                  <a:pt x="256" y="1120"/>
                </a:cubicBezTo>
                <a:cubicBezTo>
                  <a:pt x="168" y="1272"/>
                  <a:pt x="97" y="1430"/>
                  <a:pt x="0" y="1576"/>
                </a:cubicBezTo>
                <a:cubicBezTo>
                  <a:pt x="90" y="1594"/>
                  <a:pt x="26" y="1584"/>
                  <a:pt x="192" y="1584"/>
                </a:cubicBezTo>
                <a:lnTo>
                  <a:pt x="776" y="2624"/>
                </a:lnTo>
                <a:lnTo>
                  <a:pt x="968" y="1184"/>
                </a:lnTo>
                <a:cubicBezTo>
                  <a:pt x="888" y="1104"/>
                  <a:pt x="866" y="999"/>
                  <a:pt x="824" y="896"/>
                </a:cubicBezTo>
                <a:cubicBezTo>
                  <a:pt x="814" y="871"/>
                  <a:pt x="794" y="849"/>
                  <a:pt x="784" y="824"/>
                </a:cubicBezTo>
                <a:cubicBezTo>
                  <a:pt x="731" y="691"/>
                  <a:pt x="698" y="550"/>
                  <a:pt x="648" y="416"/>
                </a:cubicBezTo>
                <a:cubicBezTo>
                  <a:pt x="622" y="346"/>
                  <a:pt x="598" y="276"/>
                  <a:pt x="568" y="208"/>
                </a:cubicBezTo>
                <a:cubicBezTo>
                  <a:pt x="557" y="184"/>
                  <a:pt x="546" y="160"/>
                  <a:pt x="536" y="136"/>
                </a:cubicBezTo>
                <a:cubicBezTo>
                  <a:pt x="527" y="112"/>
                  <a:pt x="521" y="88"/>
                  <a:pt x="512" y="64"/>
                </a:cubicBezTo>
                <a:cubicBezTo>
                  <a:pt x="508" y="53"/>
                  <a:pt x="501" y="43"/>
                  <a:pt x="496" y="32"/>
                </a:cubicBezTo>
                <a:cubicBezTo>
                  <a:pt x="493" y="24"/>
                  <a:pt x="487" y="0"/>
                  <a:pt x="488" y="8"/>
                </a:cubicBezTo>
                <a:cubicBezTo>
                  <a:pt x="492" y="40"/>
                  <a:pt x="499" y="72"/>
                  <a:pt x="504" y="104"/>
                </a:cubicBez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INTELEKTO POŽYM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suprasti ir vartoti abstrak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spręsti proble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išmokti, gebėjimas pasimokyti iš patirtie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Intelekto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.Binet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ir T.Simon: intelektas yra tai, ką matuoja intelekto testa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Wechsler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– skirtingų gebėjimų visum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H.Gardner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daugialypis intelek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alb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Muzikinis intelek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Loginis matemat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Erdv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ūniškasis kinestez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idinis asmeniškas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Tarpasmen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pibrėžimai...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(arba pažinimas) – proto veikla, susijusi su informacijos supratimu, apdorojimu ir perteikim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 –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ktyvus turimų žinių transformavimas/pertvarkymas į naujas žinias, siekiant užsibrėžto tikslui.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 –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dėtinga vidinė veikla, kurią naudodamas žmogus atlieka mintines operacijas su simboliais ir ženklais, pertvarko turimas žinias ir taip suranda kažką nauj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form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tai yra turinio pasireiškimo būdas – tam tikra minčių sąrang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ąvok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objektų, įvykių ar idėjų, turinčių panašių savybių, kategorijos. Jos gali būti konkrečios ir abstrakči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Teiginy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tai mintis, kuri ką nors teigia ar neigi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Klausimai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ra teiginiui ar neiginiui parengianti mąstymo form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amprotavi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ra mąstymo forma, kai iš vieno ar kelių teiginių yra išvedami nauji teiginiai.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vok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ąvok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– objektų, įvykių ar idėjų, turinčių panašių savybių, kategorijos. Tai mintis, kurioje užfiksuoti giminingų daiktų ir reiškinių bendri ir esminiai požymia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bendresnė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baldai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konkretesnės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(kėdė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ąvokos turi </a:t>
            </a: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hierarchinę struktūrą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ąvoka nėra vaizdinys, jos yra labiau apibendrintos ir organizuot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ai kurias sąvokas kuriame pagal apibrėžimą (pvz., trikampis), kitas – pagal būdingiausią tam tikros kategorijos atstovą – </a:t>
            </a: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prototipą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vokos ir žodžio ry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57400" y="2362320"/>
            <a:ext cx="5181480" cy="3733200"/>
            <a:chOff x="2057400" y="2362320"/>
            <a:chExt cx="5181480" cy="3733200"/>
          </a:xfrm>
        </p:grpSpPr>
        <p:sp>
          <p:nvSpPr>
            <p:cNvPr id="108" name=""/>
            <p:cNvSpPr/>
            <p:nvPr/>
          </p:nvSpPr>
          <p:spPr>
            <a:xfrm>
              <a:off x="4072320" y="2362320"/>
              <a:ext cx="1439280" cy="84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tis, sąvok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57400" y="4907880"/>
              <a:ext cx="1582920" cy="11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Ženklas, simbolis, žod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99600" y="5077440"/>
              <a:ext cx="1439280" cy="84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k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40320" y="3210840"/>
              <a:ext cx="2158920" cy="2206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operac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naliz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visumos skaidymas į dalis. Mąstymo objektas mintyse suskaidomas į sudėtines dalis, išskiriamos jo savybės, požymiai ir santykia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sintez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mintinis išskirtų objekto dalių, savybių bei santykių sujungimas į visumą. lyginimas: nustatomi objektų panašumai, skirtumai ar tapatum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bstrah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atskirų reikšmingų savybių ar objektų dalių atskyrimas nuo visum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pibendrinimas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ai daiktų ar reiškinių sujungimas į tam tikrą klasę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Veiksminis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Vaizdiniu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ąvokiniu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OBLEMŲ SPRENDIMO FAZ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uždavinio situacijos ir klausimo iškil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prendimo ieškojimo būd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Bandymų ir klaid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Algoritm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- Euristik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3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prendimo surad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hipotez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įžval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4) jo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patikrin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lba – ištarti, parašyti ar gestais parodyti žodžiai ir tai, kaip mes juos deriname mąstydami ir bendraudami. Kalba – ženklų sistem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grindiniai kalbos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elementai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simboliai (žodž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gramat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lbos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funkcij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 signifikacinė ir komunikac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59:54Z</dcterms:created>
  <dc:creator>SPPS2</dc:creator>
  <dc:description/>
  <dc:language>en-US</dc:language>
  <cp:lastModifiedBy> </cp:lastModifiedBy>
  <dcterms:modified xsi:type="dcterms:W3CDTF">2007-10-30T08:14:06Z</dcterms:modified>
  <cp:revision>22</cp:revision>
  <dc:subject/>
  <dc:title>MĄSTYMAS IR KALBA</dc:title>
</cp:coreProperties>
</file>