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0663-92FD-4A22-9971-C8324FC2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4D17-D696-4C6B-9239-BDEFEE49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04CA-B946-4DA8-89FE-687E2320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4806-67A2-4793-A310-59184BAE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D363-FF9F-4F00-A0DD-45FB758F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AF36-CA40-4AB8-9304-AA7C3F99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08FA-D48F-4ED2-ACBF-85CC7735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3209-B3E6-4B9B-AD0F-D244AAD6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C55B-9FE4-4420-8824-6D49BAE0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F1A6-BAC5-4111-AA27-7C8C9638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AAE2-3AB2-4D03-9BB1-66ECDC93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16B7-10FB-442C-996C-04D8B856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E3D0-6E9B-459A-8B6B-1EC13A16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BC68-FF3A-4DE0-B566-4FFB0106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B589-EAA6-4A04-B2CC-66D949F2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A083-BC38-432D-A6F5-D2B92529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496E-693F-4081-A6BF-3B7913D2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58FA-500C-48D9-8F50-3D48E09C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CBAC-FA61-4A09-BCDF-89B09772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FB34-9A5E-4A9E-A22A-0AB8E264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1D56-BD67-4A9A-B0BA-82FA5782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258B-B5E0-48B9-B25E-45B98274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1421-2E07-406B-B3CE-4DA9F61B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1934-E1D7-40BD-9BF9-4C9150DF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229F-5030-44B4-9D3F-1AF639E9CDCA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D104-4125-4D0B-9A21-968483F16803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D</a:t>
            </a: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Ė</a:t>
            </a: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MESYS</a:t>
            </a: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 ir ATMINTIS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Užmiršimas priklauso nuo: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Įsiminimo tvirtu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Užmiršimą skatinančių veiksni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Laikomos informacijos panaudojimo praktinėje veikloje: kuo mažiau naudojame, tuo greičiau užmirštam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Interferencija (proaktyvioji/retroaktyvioji) - informacijos persidengimas, susimaišym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Kartojimo stok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Situacij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Nuostatos pasikeiti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Smegenų pažeidima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agal informacijos laikymo trukmę atmintis skirstoma į: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Jutiminę/sensoninę atmintį (SA)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Trumpalaikę atmintį (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Ilgalaikę atmintį (IA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ATMIN</a:t>
            </a: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ties gerin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edžiagos dalinimas prasminiais gaba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smeninės prasmės suteikimas - vaizduotės pasitelkimas (asociacij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edžiagos nagrinėj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ktyvus kartoj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iksl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nteksto reikšmė (tos pačios aplinkybė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edžiagos organizav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aktikavimasis (atsimini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nterferencijos maž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QRST metodas (medžiagos peržiūrėjimas, klausimai, skaitymas, pakartojimas sa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testa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n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ja – vis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škas ar dalinis atminties prarad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etaatmintis – savo paties atminties sistemos žinoji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DĖMESYS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ėmesy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— savitas individo nervų sistemos mechanizmas, užtikrinantis jam efektyvų psichinės veiklos organizuotum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ėmesys – tai procesas, kuris leidžia išskirti objektus ar stimulus iš daugelio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Dėmesio objekta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– tai, į ką sutelktas dėmes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Dėmesio fona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– tai, kas supa objekt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DĖMESIO VEIKSNIAI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- veiksniai, kurie skatina ar slopina dėmes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oriniai: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timulų intensyvu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auju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palvinu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truktūrišku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diniai: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asmenybės kryptingumas (poreikiai, interesai) ir su juo susiję veiklos tikslai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DĖMESIO RŪŠ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išankstinį dėmesio krypties pasirinkimą: 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nevalingas, valingas, savaimin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platumą: 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selektyvus ir paskirsty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Dėmesio savybė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ntensyvumas/koncentracija &lt; &gt; svyravimas, išsek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tvar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io apim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io paskirsty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io perkėlimas &lt; &gt; klamp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ing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ATMINTI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mintis – tai sugebėjimas įsiminti, laikyti ir po kiek laiko atgaminti gautą informacij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minties procesai: įsiminimas, saugojimas, atsiminimas. Užmirši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Įsiminima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- tai užkodavimas, suteikiant gautai informacijai formą ir įvedimas į atmint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Nevalingas (automatišk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aling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Mechaninis arba prasminis/semantin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Vaizdiniai (regimasis kodavima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nformacijos sutvarkym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UŽMIRŠ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ai atminties procesas, dėl kurio suvoktos ir užkoduotos informacijos negalime prisimin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H.Ebbinghauso užmiršimo kreivė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842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8:49:57Z</dcterms:created>
  <dc:creator>TADAS</dc:creator>
  <dc:description/>
  <dc:language>en-US</dc:language>
  <cp:lastModifiedBy> </cp:lastModifiedBy>
  <dcterms:modified xsi:type="dcterms:W3CDTF">2007-10-24T20:22:40Z</dcterms:modified>
  <cp:revision>14</cp:revision>
  <dc:subject/>
  <dc:title>ATMINTIS IR DĖMESYS</dc:title>
</cp:coreProperties>
</file>