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0B8-BFD1-4EDF-ADC4-DEA1B8DA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145-7D58-4BAC-BE0E-E7B7A1C3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D3B-AB41-4380-A293-C40F02F2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89D-40F5-4152-A84A-75D5F2EA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D1A3-3424-42F0-AF64-40BB491B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E123-9C3D-41D8-AC5D-EA9DD83F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355D-3010-4355-8D24-ED4FED21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ECFD-8BAD-40B2-89C9-2113B5DB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2040-4FF3-4BDC-88C7-1532418C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BAC-289B-4602-A7AC-143708BB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F255-06A0-4FED-9595-DDD26142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423-4F01-4B44-98AF-E8F56522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9573-1EE6-438D-8D62-45506AC9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48CA-A80F-4413-9F93-43D266B8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9086-5BCC-4C55-8913-A02EEBA9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6345-2A7D-435C-8A31-E43F597F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2F68-5455-4CDC-840A-88D0CCCA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7DB-1780-4694-8D48-4D809339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759-40CC-4766-AC77-DA64038F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0D2-7393-4D5D-8AFF-C13AEE13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318-8163-47EF-B76D-9FB3EDEA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833-1AAC-40DF-9D72-DAE953AA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385-CEDF-43BC-BCBC-5B8A03A5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A10-EFC7-4109-9233-427BD7CC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A50A-35CA-4DFE-B4A6-60473FB2C0E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3E15-49A4-439E-A824-2251907CD7F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D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Ė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MESYS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 ir ATMINTI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Užmiršimas priklauso nuo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siminimo tvirt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miršimą skatinančių veiksn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aikomos informacijos panaudojimo praktinėje veikloje: kuo mažiau naudojame, tuo greičiau užmiršta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nterferencija (proaktyvioji/retroaktyvioji) - informacijos persidengimas, susimaišy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rtojimo sto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tuacij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uostatos pasikeit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megenų pažeidim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gal informacijos laikymo trukmę atmintis skirstoma į: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Jutiminę/sensoninę atmintį (SA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Trumpalaikę atmintį (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Ilgalaikę atmintį (I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ATMIN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ties ger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dalinimas prasminiais gaba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ės prasmės suteikimas - vaizduotės pasitelkimas (asociaci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nagrinė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tyvus karto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ksl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teksto reikšmė (tos pačios aplinkybė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organ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ktikavimasis (atsimin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terferencijos maž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QRST metodas (medžiagos peržiūrėjimas, klausimai, skaitymas, pakartojimas s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sta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a – vis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kas ar dalinis atminties prara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taatmintis – savo paties atminties sistemos žinoj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Y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ėmesy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— savitas individo nervų sistemos mechanizmas, užtikrinantis jam efektyvų psichinės veiklos organizuotum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ėmesys – tai procesas, kuris leidžia išskirti objektus ar stimulus iš daugeli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objek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į ką sutelktas dėme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f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kas supa objekt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VEIKSN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- veiksniai, kurie skatina ar slopina dėmes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or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imulų intensyv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uj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palvin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išku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smenybės kryptingumas (poreikiai, interesai) ir su juo susiję veiklos tiksla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išankstinį dėmesio krypties pasirinki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nevalingas, valingas, savaimin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latu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elektyvus ir paskirsty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savyb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/koncentracija &lt; &gt; svyravimas, išse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var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apim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askirs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erkėlimas &lt; &gt; klamp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ng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TMINT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s – tai sugebėjimas įsiminti, laikyti ir po kiek laiko atgaminti gautą informacij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procesai: įsiminimas, saugojimas, atsiminimas. Užmirš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Įsimin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tai užkodavimas, suteikiant gautai informacijai formą ir įvedimas į atmint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Nevalingas (automatišk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ling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echaninis arba prasminis/semantin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Vaizdiniai (regimasis kodavim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nformacijos sutvarky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UŽMIRŠ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atminties procesas, dėl kurio suvoktos ir užkoduotos informacijos negalime prisimi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H.Ebbinghauso užmiršimo kreivė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49:57Z</dcterms:created>
  <dc:creator>TADAS</dc:creator>
  <dc:description/>
  <dc:language>en-US</dc:language>
  <cp:lastModifiedBy> </cp:lastModifiedBy>
  <dcterms:modified xsi:type="dcterms:W3CDTF">2007-10-24T20:22:40Z</dcterms:modified>
  <cp:revision>14</cp:revision>
  <dc:subject/>
  <dc:title>ATMINTIS IR DĖMESYS</dc:title>
</cp:coreProperties>
</file>