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E790-DBAA-4E97-B739-618AE21DD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F31B-8DF8-4626-BAF0-83F9CC06D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84F8-7C0C-4879-AF1D-B2E5AB0A2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235F-A2CA-42E4-BEC9-BBED551FC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561FE-D711-41FA-A9D4-09E5D74FB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2B0C5-7608-4474-8921-351210E05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0266C-B146-4CB6-9690-4753BEE35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83EAD-45D4-48F6-A1A5-52DF0D691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F6618-611A-47D6-9B53-E6043EBF6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91FF9-350C-426E-BF3E-0633F452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BF83A-3E4F-4695-B451-2DC4EFE3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B9C8-2222-41FD-9096-E7E8111B2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D4554-52C9-4771-BB84-743A2E2B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4D496-6411-4606-8FF8-32126693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3ECCD-2FED-40A1-9C54-4F75A7FE2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6100A-3058-40F6-9CAE-0D3839D2F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39A4E-E806-46A1-BD23-1042BB6F0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4EC2-1F43-4E33-A170-45B6876BF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A975-7377-4C34-969E-8C123208B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ECD2-60CF-43FE-8DD8-D9CBF180F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6C93-E1EC-4904-98D8-DCE88B2B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F46A-BD3A-4344-8586-DBD4E67B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B980-F6B3-412F-AFB3-AD131DAB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A300-AA2B-476F-869D-B5BE9488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C0374-8699-46F1-B47F-7F12180B8BB2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799EA-B853-4569-81DE-5F144AFFF654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92000" y="1143000"/>
            <a:ext cx="69944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330033"/>
                </a:solidFill>
                <a:latin typeface="Times New Roman"/>
              </a:rPr>
              <a:t>PAŽINIMO PROCESAI:</a:t>
            </a:r>
            <a:br>
              <a:rPr sz="4800"/>
            </a:br>
            <a:endParaRPr b="0" lang="en-US" sz="4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JUTIMAS IR SUVOKI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SPALVOS PASTOVUMAS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060560" y="2643120"/>
            <a:ext cx="7548480" cy="23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KLAUSA 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Amplitudė, daž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Ausis: vidurinė a., vidinė a., sraig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KITI JUTIMAI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Lyta: spaudimo, šilumos, šalčio ir skausmo derinys; Melzacko ir Wallio „vartų kontrolės“ teor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konis: saldu, rūgštu, sūru ir kart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Uosl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Kūno padėtis ir judėjimas - kinestez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SUVOKIMA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uvokinys - sąmonėje susiformavęs daikto, reiškinio ar įvykio visumos atspindy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percepcija – patyrimo įtaka suvokim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SUVOKINIO KŪRIMAS 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Formos suvokimas: grupavimo taisyklės (artumas, panašumas, ištisumas, uždarumas, susietum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908000" y="3357720"/>
            <a:ext cx="5042160" cy="3168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635280" y="330516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ffffff"/>
                </a:solidFill>
                <a:latin typeface="Arial"/>
                <a:ea typeface="Arial"/>
              </a:rPr>
              <a:t>Fonas - figū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Laiko suvokima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ritinis laiko intervalas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- mažiausias tarp dviejų įvykių juntamas laiko tarp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ituacijos pobūd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Motyva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mžiaus faktori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Gylio suvokimas:</a:t>
            </a:r>
            <a:br>
              <a:rPr sz="3800"/>
            </a:b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 </a:t>
            </a: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trimačių objektų matymas</a:t>
            </a:r>
            <a:endParaRPr b="0" lang="en-US" sz="3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Binokuliniai signalai: atvaizdų skirtumas tinklainėse, akių konvergen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Monokuliniai signalai: santykinis dydis, sanklota, oro perspektyva, tekstūros gradientas, santykinis judėjimas, tiesinė perspektyva, santykinis skaistis, santykinis aukš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724360" y="4653000"/>
            <a:ext cx="216072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SUVOKIMO PASTOVUMAS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Formos ir dydžio suvokimo pastovu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Dydžio suvokimo pastovu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onzo iliuz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564000" y="3284640"/>
            <a:ext cx="498168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SUVOKINIO ĮPRASMINIMAS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Miulller-Lyerio iliuz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Nuostatos, apercepcijos sche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500720" y="4365720"/>
            <a:ext cx="3828960" cy="15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http://www.michaelbach.de/o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179280" y="1447560"/>
            <a:ext cx="8676720" cy="3392640"/>
            <a:chOff x="179280" y="1447560"/>
            <a:chExt cx="8676720" cy="3392640"/>
          </a:xfrm>
        </p:grpSpPr>
        <p:cxnSp>
          <p:nvCxnSpPr>
            <p:cNvPr id="100" name="_s34830"/>
            <p:cNvCxnSpPr>
              <a:stCxn id="101" idx="1"/>
              <a:endCxn id="102" idx="2"/>
            </p:cNvCxnSpPr>
            <p:nvPr/>
          </p:nvCxnSpPr>
          <p:spPr>
            <a:xfrm rot="10800000">
              <a:off x="2908800" y="2424960"/>
              <a:ext cx="283320" cy="2127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3" name="_s34829"/>
            <p:cNvCxnSpPr>
              <a:stCxn id="104" idx="1"/>
              <a:endCxn id="102" idx="2"/>
            </p:cNvCxnSpPr>
            <p:nvPr/>
          </p:nvCxnSpPr>
          <p:spPr>
            <a:xfrm rot="10800000">
              <a:off x="2908800" y="2424960"/>
              <a:ext cx="283320" cy="1323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34828"/>
            <p:cNvCxnSpPr>
              <a:stCxn id="106" idx="1"/>
              <a:endCxn id="102" idx="2"/>
            </p:cNvCxnSpPr>
            <p:nvPr/>
          </p:nvCxnSpPr>
          <p:spPr>
            <a:xfrm rot="10800000">
              <a:off x="2908800" y="2424960"/>
              <a:ext cx="283320" cy="518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2" name="_s34824"/>
            <p:cNvSpPr/>
            <p:nvPr/>
          </p:nvSpPr>
          <p:spPr>
            <a:xfrm>
              <a:off x="179280" y="1447560"/>
              <a:ext cx="5461560" cy="97812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960" rIns="84960" tIns="42480" bIns="42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ŠORINIŲ STIMULŲ POVEIKIO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CHEM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34825"/>
            <p:cNvSpPr/>
            <p:nvPr/>
          </p:nvSpPr>
          <p:spPr>
            <a:xfrm>
              <a:off x="3192480" y="2654280"/>
              <a:ext cx="5663520" cy="57636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960" rIns="84960" tIns="42480" bIns="42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ORMACIJOS ĮVEDIMA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34826"/>
            <p:cNvSpPr/>
            <p:nvPr/>
          </p:nvSpPr>
          <p:spPr>
            <a:xfrm>
              <a:off x="3192480" y="3459240"/>
              <a:ext cx="5663520" cy="57600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960" rIns="84960" tIns="42480" bIns="42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ORMACIJOS APDOROJIMA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34827"/>
            <p:cNvSpPr/>
            <p:nvPr/>
          </p:nvSpPr>
          <p:spPr>
            <a:xfrm>
              <a:off x="3192480" y="4263840"/>
              <a:ext cx="5663520" cy="57636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960" rIns="84960" tIns="42480" bIns="42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ORMACIJOS ĮPRASMINIMA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PAGRINDINĖS SĄVOKO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640" y="1599840"/>
            <a:ext cx="835344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Jutimas –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tai procesas, primityviai atspindintis daiktų ir reiškinių savybes ar organizmo vidinę būseną, kai tai tiesiogiai veikia jutimo organ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ojūtis (jutimo proceso rezultatas)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— adekvatus dirgiklio, arba stimulo, vaizdas mūsų smegeny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Suvokimas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- psichinis procesas, daikto ar reiškinio vaizdo formavima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Sensorinės sistemos -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sistemos, kurios priima išorinius signalus, atlieka jų analizę ir priima sprendimą, koks objektas veikia jų įėjim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Pojūčių skirstymas</a:t>
            </a:r>
            <a:br>
              <a:rPr sz="3800"/>
            </a:b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(sensorinės sistemos)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šviesos (rega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kustinius (klausa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nius (uoslė, skoni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tilinius (lyta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omotorinius (vestibiulika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ausmo, temperatūros, vidinės organizmo būseno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netinio lauko(?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kstrasensorinius(?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BENDRIEJI POJŪČIŲ YPATUMAI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Modalu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Intensyvu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Trukm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Latentinis laik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pimtis, tanku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Jautris (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nusakomas pojūčių slenksčia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POJŪČIŲ SLENKSČIAI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8425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bsoliutus žemutinis slenksti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– mažiausias dirginimas, kurios reikia konkrečiam dirgikliui aptikt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kislenkstinis dirgin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kirtumo arba skyrimo slenksti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- mažiausias dviejų dirgiklių skirtumas, kurį 50 % atvejų gali aptikt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asmu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ėberio dėsni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: skirtumo slenkstis yra ne pastovus kiekis, bet tam tikras pastovus dirgiklių santyk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Jutimų adapt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REGA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Vyzdys, rainelė, lęšiukas, akomodacija, tinklainė, stiebeliai (lazdelės), kūgeliai, akloji dėmė, regos nervas, požymių detektori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476360" y="3573360"/>
            <a:ext cx="567684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PREGA: SPALVŲ SUVOKIMAS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Youngo ir Helmholtzo trijų spalvų teorija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: tinklainėje yra 3-jų rūšių spalvos receptorių: kiekvienos jų receptoriai yra ypač jautrūs vienai iš trijų spalvų (žalia, mėlyna, raudo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Oponentinių procesų teorija (Heringas)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: palikusi receptorius, regimoji informacija toliau analizuojama priešingų spalvų požiūriu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800" spc="-1" strike="noStrike">
                <a:solidFill>
                  <a:srgbClr val="330033"/>
                </a:solidFill>
                <a:latin typeface="Tahoma"/>
              </a:rPr>
              <a:t>Oponentinių procesų teorija (pvz.)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808280" y="1692360"/>
            <a:ext cx="612144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19:53:02Z</dcterms:created>
  <dc:creator>TADAS</dc:creator>
  <dc:description/>
  <dc:language>en-US</dc:language>
  <cp:lastModifiedBy> </cp:lastModifiedBy>
  <dcterms:modified xsi:type="dcterms:W3CDTF">2007-09-13T22:08:20Z</dcterms:modified>
  <cp:revision>24</cp:revision>
  <dc:subject/>
  <dc:title>Slide 1</dc:title>
</cp:coreProperties>
</file>