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C0F-85CB-4FED-96C5-7030144F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946-4024-47AD-9834-58B8672F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887-DD07-45EC-B1A0-C46858F3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1A5-C7DF-4E5A-A5F8-C926CE90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C2C3-3232-4ACB-B74F-99E27C4E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91CF-2702-4191-8094-D265E11D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5B49-889D-4183-80B6-3448902D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B577-5FEB-412B-B072-67BF2B6C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C96D-A018-42DA-A928-712B1D03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A50B-4ED4-4B7F-BAC6-7543F49C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DDC5-A19C-4455-BF4D-F15C9580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202-2620-4506-84E0-E1940525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061C-2AB8-455E-8263-634737ED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B297-35CF-4022-997B-14111B89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758B-14B9-4A0E-8995-65FA8F04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AF2E-6299-41EA-94FB-8A852846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4DCC-A7DE-4C2B-A612-731515CE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3D4-0756-4EFA-BD4C-E220AD55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381-CB70-4874-93FD-75BF2B1B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150-69EC-44D6-9D70-FA2FC74D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C61-7650-46F3-B79E-019F092A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912-D3CB-448C-95AD-B6507E4C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C70-82C5-4034-A1D6-BCA1672B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AF8-440F-40FC-B08E-C95534F3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6384-7BDF-459A-848F-C7A6D07A2E27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F250-77BF-498B-B35F-90578F581B63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SI</a:t>
            </a:r>
            <a:r>
              <a:rPr b="0" lang="lt-LT" sz="4200" spc="-1" strike="noStrike">
                <a:solidFill>
                  <a:srgbClr val="330033"/>
                </a:solidFill>
                <a:latin typeface="Times New Roman"/>
              </a:rPr>
              <a:t>CHOLOGIJOS ĮVAD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okt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a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1593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1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54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40000" y="404640"/>
            <a:ext cx="63468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hn Watso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Psichologija biheivioristo požiūriu“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IVEIVIOR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raham Maslow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Motyvacija ir asmenybė”.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rl Roger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HUMAN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ktor Frank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laikomas egzistencinės psichologijos pradinin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GZISTENCIAL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os raida Lietuvoje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6m. – VPU prad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ėta ruošti psichologus (katedros vadovas A.Guč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9m. – V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3m. – specialiosios psichologijos laborator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m. – Lietuvos psicholog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 sąjung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APIBRĖŽIMAS IR OBJEKTAS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mokslas, tiriantis psichikos faktus, nustatantis dėsnius ir kuriantis jų aiškinimo 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os mokslo objektas 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 ir jos reiškinia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a tyrinėja: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lges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id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žinimo proce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dividualius skirtu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į elges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TEORINĖS PSICHOLOGIJOS SRITY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endro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ė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idos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Zoo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opsichologija ir 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PRAKTINĖS PSICHOLOGIJOS SRITY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inikin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Organizacinė psichologija (darb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edagoginė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porto, reklamos, teisės ir k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PSICHOLOGIJOS MOKSLO IŠTAKO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ligija, mitologija, filosof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enovės Rytų tautų psichologinės pažiū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ntikinė psicholo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iduramžių psicholog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os istorija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1778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60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79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340000" y="1905120"/>
            <a:ext cx="6346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rnst Web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ustav Fechn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psichofizikiniu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yrinėji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r Francis Galton  -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ėgino vertinti intelektą, pradėjo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vynių tyrimu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Wilhelm Wund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įkūrė pirmąją psichologijos laboratoriją Leipcige, Vokietijoje, kur pradėjo taikyti mokslinius metodus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RUKTŪRAL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173844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85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90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0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24000" y="404640"/>
            <a:ext cx="7020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man Ebbinghau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ociacijų dėsniai, atminties tyrinėjim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William James -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irmasis psichologijos vadovėlis ,,Psichologijos principai” (2 toma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UNKCIONALIZ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gmund Freud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Sapnų aiškinim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SICHODINAMINĖ PSICH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159372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5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6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12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11280" y="404640"/>
            <a:ext cx="62755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lfred Bine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heodore Simo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sukuria I-ąjį intelekto te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usų fiziologas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van Pavlov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klasikinio sąlygojimo eksperimentai su gyvūn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ax Wertheimer, Wolfgang Köler, Kurt Koffka –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vokimo tyrim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EŠTALTINĖ PSICHOLOG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1:47:41Z</dcterms:created>
  <dc:creator>vplc</dc:creator>
  <dc:description/>
  <dc:language>en-US</dc:language>
  <cp:lastModifiedBy> </cp:lastModifiedBy>
  <dcterms:modified xsi:type="dcterms:W3CDTF">2007-09-03T19:46:20Z</dcterms:modified>
  <cp:revision>20</cp:revision>
  <dc:subject/>
  <dc:title>PSICHOLOGIJOS ĮVADAS</dc:title>
</cp:coreProperties>
</file>