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A10-3119-4E8F-B0E6-B080B8AE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B41-B9FF-4402-9F71-0AACE5C1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4CC-9C07-4B53-BDC3-211648C6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93C-FD94-465B-8C51-7664C879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B82A-1D25-4BF5-A407-58AF84AA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16D2-01A8-4402-BBA6-5577DC28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E4D3-E880-4257-85F5-112ED2FE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38A8-1D6F-409C-9167-B5221994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3A28-C60F-40BC-98A0-B6FD2884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7FDD-6A10-4EC3-BD13-C3D1C352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AE3-77C6-4876-9C57-4D29013F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AA1-94D3-48B9-BA30-3621A469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F295-F6EA-4922-9F72-F98522D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F52C-9AFD-47FC-9C5E-A32877FF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D249-41FA-41B1-8FD2-D5E78E9F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D515-FF07-4593-9DB5-DFA282FB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6B2-76A3-406A-94C3-75984841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AC2-C7A7-46AF-83A2-3B08051E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1E3-3815-48B2-BAF1-7792D75F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159-4F2D-4C72-AA76-B913D814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B09-9E52-46FC-9B3F-EF64EEB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6CF-84D6-4E23-93CC-EB9BFF3D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383-E869-45C0-87AB-1B71F302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7E5-283E-48EC-A3A8-1F98DCF4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3C88-37DB-4000-9E2D-310D692BF19F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EA01-1878-4CC9-88C8-CB6C449391D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t.wikipedia.org/wiki/Galin&#279;s_smegenys" TargetMode="External"/><Relationship Id="rId3" Type="http://schemas.openxmlformats.org/officeDocument/2006/relationships/hyperlink" Target="http://lt.wikipedia.org/wiki/Didieji_pusrutuliai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t.wikipedia.org/wiki/Dendritas" TargetMode="External"/><Relationship Id="rId3" Type="http://schemas.openxmlformats.org/officeDocument/2006/relationships/hyperlink" Target="http://lt.wikipedia.org/wiki/Aksonas" TargetMode="External"/><Relationship Id="rId4" Type="http://schemas.openxmlformats.org/officeDocument/2006/relationships/hyperlink" Target="http://lt.wikipedia.org/wiki/&#352;vano_l&#261;stel&#279;" TargetMode="External"/><Relationship Id="rId5" Type="http://schemas.openxmlformats.org/officeDocument/2006/relationships/hyperlink" Target="http://lt.wikipedia.org/wiki/&#352;vano_l&#261;stel&#279;" TargetMode="External"/><Relationship Id="rId6" Type="http://schemas.openxmlformats.org/officeDocument/2006/relationships/hyperlink" Target="http://lt.wikipedia.org/wiki/L&#261;stel&#279;" TargetMode="External"/><Relationship Id="rId7" Type="http://schemas.openxmlformats.org/officeDocument/2006/relationships/hyperlink" Target="http://lt.wikipedia.org/wiki/L&#261;stel&#279;s_branduolys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43000"/>
            <a:ext cx="8147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Kūno ir sielos problema.</a:t>
            </a:r>
            <a:br>
              <a:rPr sz="4800"/>
            </a:b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Biologiniai elgesio pagrindai</a:t>
            </a: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95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alvos smegenų tyrimų priemon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inikiniai stebėjim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esioginis poveikis smegen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elektrinio aktyvumo registravimas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elektroencefalograma (E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pjūviai – KAT (kompiuterinis aš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T (pozitroninis emis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zonan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ofizinė problem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1200" y="1704600"/>
            <a:ext cx="7146720" cy="4195800"/>
            <a:chOff x="1141200" y="1704600"/>
            <a:chExt cx="7146720" cy="4195800"/>
          </a:xfrm>
        </p:grpSpPr>
        <p:sp>
          <p:nvSpPr>
            <p:cNvPr id="103" name="_s19469"/>
            <p:cNvSpPr/>
            <p:nvPr/>
          </p:nvSpPr>
          <p:spPr>
            <a:xfrm>
              <a:off x="3649680" y="2449440"/>
              <a:ext cx="2131560" cy="21319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463"/>
            <p:cNvSpPr/>
            <p:nvPr/>
          </p:nvSpPr>
          <p:spPr>
            <a:xfrm>
              <a:off x="3832200" y="1704600"/>
              <a:ext cx="176472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Kūna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(</a:t>
              </a: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megeny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9470"/>
            <p:cNvSpPr/>
            <p:nvPr/>
          </p:nvSpPr>
          <p:spPr>
            <a:xfrm>
              <a:off x="4351320" y="3665160"/>
              <a:ext cx="2131560" cy="2132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9464"/>
            <p:cNvSpPr/>
            <p:nvPr/>
          </p:nvSpPr>
          <p:spPr>
            <a:xfrm>
              <a:off x="652284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iela (sąmonė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9471"/>
            <p:cNvSpPr/>
            <p:nvPr/>
          </p:nvSpPr>
          <p:spPr>
            <a:xfrm>
              <a:off x="2948040" y="3665160"/>
              <a:ext cx="2131560" cy="2132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9467"/>
            <p:cNvSpPr/>
            <p:nvPr/>
          </p:nvSpPr>
          <p:spPr>
            <a:xfrm>
              <a:off x="114120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Išorinis pasaul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sichofizinės problemos sprend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kazionalizmas (Dievas yra visa ko priežas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fizinis parale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ateria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iuolaikinis požiū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5280" y="1359000"/>
            <a:ext cx="8748360" cy="4302000"/>
            <a:chOff x="395280" y="1359000"/>
            <a:chExt cx="8748360" cy="4302000"/>
          </a:xfrm>
        </p:grpSpPr>
        <p:cxnSp>
          <p:nvCxnSpPr>
            <p:cNvPr id="114" name="_s25625"/>
            <p:cNvCxnSpPr>
              <a:stCxn id="115" idx="1"/>
              <a:endCxn id="116" idx="2"/>
            </p:cNvCxnSpPr>
            <p:nvPr/>
          </p:nvCxnSpPr>
          <p:spPr>
            <a:xfrm rot="10800000">
              <a:off x="5739840" y="4288680"/>
              <a:ext cx="23364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5623"/>
            <p:cNvCxnSpPr>
              <a:stCxn id="118" idx="1"/>
              <a:endCxn id="116" idx="2"/>
            </p:cNvCxnSpPr>
            <p:nvPr/>
          </p:nvCxnSpPr>
          <p:spPr>
            <a:xfrm rot="10800000">
              <a:off x="5739840" y="4288680"/>
              <a:ext cx="2336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5621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7626960" y="3207600"/>
              <a:ext cx="229320" cy="36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5619"/>
            <p:cNvCxnSpPr>
              <a:stCxn id="116" idx="0"/>
              <a:endCxn id="121" idx="2"/>
            </p:cNvCxnSpPr>
            <p:nvPr/>
          </p:nvCxnSpPr>
          <p:spPr>
            <a:xfrm flipH="1" flipV="1" rot="5400000">
              <a:off x="6535440" y="2481120"/>
              <a:ext cx="229320" cy="1819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561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2894040" y="2845440"/>
              <a:ext cx="229320" cy="109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5615"/>
            <p:cNvCxnSpPr>
              <a:stCxn id="127" idx="0"/>
              <a:endCxn id="125" idx="2"/>
            </p:cNvCxnSpPr>
            <p:nvPr/>
          </p:nvCxnSpPr>
          <p:spPr>
            <a:xfrm flipH="1" flipV="1" rot="5400000">
              <a:off x="1802160" y="2842920"/>
              <a:ext cx="229320" cy="1095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5612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6049440" y="738000"/>
              <a:ext cx="229320" cy="279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5611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3502440" y="980280"/>
              <a:ext cx="229320" cy="2306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5607"/>
            <p:cNvSpPr/>
            <p:nvPr/>
          </p:nvSpPr>
          <p:spPr>
            <a:xfrm>
              <a:off x="2854080" y="1359000"/>
              <a:ext cx="3830760" cy="6602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5608"/>
            <p:cNvSpPr/>
            <p:nvPr/>
          </p:nvSpPr>
          <p:spPr>
            <a:xfrm>
              <a:off x="87840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ENTRIN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 (CNS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09"/>
            <p:cNvSpPr/>
            <p:nvPr/>
          </p:nvSpPr>
          <p:spPr>
            <a:xfrm>
              <a:off x="597348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ERIFERIN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5614"/>
            <p:cNvSpPr/>
            <p:nvPr/>
          </p:nvSpPr>
          <p:spPr>
            <a:xfrm>
              <a:off x="39528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GALV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5616"/>
            <p:cNvSpPr/>
            <p:nvPr/>
          </p:nvSpPr>
          <p:spPr>
            <a:xfrm>
              <a:off x="258012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UGAR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8"/>
            <p:cNvSpPr/>
            <p:nvPr/>
          </p:nvSpPr>
          <p:spPr>
            <a:xfrm>
              <a:off x="4764960" y="3505320"/>
              <a:ext cx="194940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UTONOMINĖ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20"/>
            <p:cNvSpPr/>
            <p:nvPr/>
          </p:nvSpPr>
          <p:spPr>
            <a:xfrm>
              <a:off x="694944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OMATINĖ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22"/>
            <p:cNvSpPr/>
            <p:nvPr/>
          </p:nvSpPr>
          <p:spPr>
            <a:xfrm>
              <a:off x="5973480" y="45180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24"/>
            <p:cNvSpPr/>
            <p:nvPr/>
          </p:nvSpPr>
          <p:spPr>
            <a:xfrm>
              <a:off x="5973480" y="52038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RA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Centrinė nervų sistema (</a:t>
            </a: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2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62200" y="1969920"/>
            <a:ext cx="2476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Galvos smegen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345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5157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Galvos smegenys:1.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Galinės smegeny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, arba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didieji pusrutulia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 2. Tarpinės smegenys 3.Vidurinės smegenys 4. Užpakalinės smegenys 5. Smegenėlės 6. Pailgosios smegen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Neuronai ir j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ų sąve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45080" cy="35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76560" y="568152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084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Neurono sandara. 1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Dendri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2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Aks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4. Sinapsinės jungtys 5. Mielininis dangalas (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4"/>
              </a:rPr>
              <a:t>Švano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5"/>
              </a:rPr>
              <a:t> ląstelė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) 6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6"/>
              </a:rPr>
              <a:t>Ląstelė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7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7"/>
              </a:rPr>
              <a:t>Ląstelės branduol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inapsės – neuronų jungt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968720" cy="453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40000" y="5589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Neuronų rūšys (pagal funkcija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nt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din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Įterptini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1:03:14Z</dcterms:created>
  <dc:creator>TADAS</dc:creator>
  <dc:description/>
  <dc:language>en-US</dc:language>
  <cp:lastModifiedBy> </cp:lastModifiedBy>
  <dcterms:modified xsi:type="dcterms:W3CDTF">2007-08-29T18:20:44Z</dcterms:modified>
  <cp:revision>17</cp:revision>
  <dc:subject/>
  <dc:title>BIOLOGINIAI ELGESIO PAGRINDAI</dc:title>
</cp:coreProperties>
</file>