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12B-20F4-4923-8C68-407E84A2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2EE-77E8-4B1A-B6E3-05D98A35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4BD-8A0E-4A53-80BD-2F0B2D65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A40A-4D19-45C6-B198-23278A5E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DB57-E057-43E5-AD56-82ED4811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D201-F4B0-4F12-A920-A2A3105E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4164-05A2-477D-A3AC-66B247BB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37AC-DE11-4FDB-9B25-A12D0885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0D9B-1AF4-4B33-8BB6-F8E515AA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DE26-D857-404C-BDEA-7324601F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AC46-55A2-4D56-895F-D834A43C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9D4-6433-4761-9F4E-3946A668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B741-20FA-465B-B415-BB803C07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1255-D2A4-4747-BE84-7BBC76AF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623F-76DC-4635-BA4C-16A233A4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2DF9-C75D-4770-8E9A-109ECE62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493B-E130-4C44-8099-D83D3170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FF2-F4E9-4395-B998-FA18AC8A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6BA-C121-4762-8171-71C92E81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4D59-DEF3-4188-AB40-B3DBA115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F7E-180C-4CEA-B66C-6819617E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37F5-1DD6-45CE-A3D3-25917843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C26-5BC2-410F-A0A2-FB702DCD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D81D-4E1D-4D73-B0EF-0AB9831E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8FE6-DCB2-4D3E-9FD9-A8BFBB8C265F}" type="slidenum">
              <a:rPr b="0" lang="lt-L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C412-BC14-4754-B279-3ADA760985C9}" type="slidenum">
              <a:rPr b="0" lang="lt-L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ASMENYBĖS TEOR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78040" y="3781440"/>
            <a:ext cx="604512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INDIVIDUALIOJI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ADLER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nkavertiškumo jausmas, komplek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Organų menkavertišku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erdėta glob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Atstūmim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anašumo siek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yvenimo stili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dominavimo gyvenimo stili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gavimo gyvenimo stil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vengimo stil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socialiai naudingas gyvenimo stil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INDIVIDUALIOJI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ADLER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is inte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imimo eilišku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irmasi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ntrasi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Jauniausia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ieninteli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BIHEVIORISTINĖS ASMENYBĖS TEORIJOS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.Pavlovas: klasikinis sąlygoj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prantinio elgesio teorija (B.F.Skinner): operantinis sąlygojimas, pastiprinimo sch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HUMANISTINĖS PSICHOLOGIJOS ASMENYBĖS TEORIJOS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C.ROGERS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Organizmas ir bazinė tendencija aktualizuo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tyrimų (fenomenų) lauk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š ir Aš suvok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eigiamo vertinimo poreikis ir sąlyginis vert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esąlyginis teigiamas vert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HUMANISTINĖS PSICHOLOGIJOS ASMENYBĖS TEORIJOS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MASLOW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oreikių hierarch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5.Saviaktualizacijos poreik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4.Poreikis pagarb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3.Poreikis priklausyti ir meilės poreik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2.Saugumo poreik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1.Fiziologiniai poreiki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SOCIALINIO MOKYMOSI TEOR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BANDURA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deliavimas: modelio charakteristikos, stebėtojo charakteristikos, su elgesiu susiję paskatini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ys, įsiminimas, atgaminimas, paskat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avęs pastipr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avo efektyvumo vert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Z.Froida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360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Z.Froidas: asmenybės struktūra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6000" y="1988640"/>
            <a:ext cx="5832360" cy="3745440"/>
            <a:chOff x="1476000" y="1988640"/>
            <a:chExt cx="5832360" cy="3745440"/>
          </a:xfrm>
        </p:grpSpPr>
        <p:sp>
          <p:nvSpPr>
            <p:cNvPr id="102" name=""/>
            <p:cNvSpPr/>
            <p:nvPr/>
          </p:nvSpPr>
          <p:spPr>
            <a:xfrm rot="10800000">
              <a:off x="1476000" y="1988280"/>
              <a:ext cx="5832360" cy="3745080"/>
            </a:xfrm>
            <a:custGeom>
              <a:avLst/>
              <a:gdLst>
                <a:gd name="textAreaLeft" fmla="*/ 1282320 w 5832360"/>
                <a:gd name="textAreaRight" fmla="*/ 4550040 w 5832360"/>
                <a:gd name="textAreaTop" fmla="*/ 823320 h 3745080"/>
                <a:gd name="textAreaBottom" fmla="*/ 2921760 h 374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79760" y="2702160"/>
              <a:ext cx="36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64400" y="3593880"/>
              <a:ext cx="425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52440" y="2167200"/>
              <a:ext cx="126072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lt-LT" sz="2000" spc="-1" strike="noStrike">
                  <a:solidFill>
                    <a:srgbClr val="000000"/>
                  </a:solidFill>
                  <a:latin typeface="Tahoma"/>
                </a:rPr>
                <a:t>Sąmonė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52440" y="2880360"/>
              <a:ext cx="189144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ahoma"/>
                </a:rPr>
                <a:t>Priešsąmonė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37080" y="3772080"/>
              <a:ext cx="2206800" cy="71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lt-LT" sz="2000" spc="-1" strike="noStrike">
                  <a:solidFill>
                    <a:srgbClr val="000000"/>
                  </a:solidFill>
                  <a:latin typeface="Tahoma"/>
                </a:rPr>
                <a:t>Pasąmonė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209760" y="1989000"/>
              <a:ext cx="1103400" cy="3745080"/>
            </a:xfrm>
            <a:prstGeom prst="line">
              <a:avLst/>
            </a:prstGeom>
            <a:ln w="284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83160" y="4128840"/>
              <a:ext cx="2994840" cy="0"/>
            </a:xfrm>
            <a:prstGeom prst="line">
              <a:avLst/>
            </a:prstGeom>
            <a:ln w="284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28880" y="2880360"/>
              <a:ext cx="1418400" cy="71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EG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71200" y="4489200"/>
              <a:ext cx="1733760" cy="89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03480" y="3950640"/>
              <a:ext cx="1418400" cy="12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SUP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EG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033"/>
                </a:solidFill>
                <a:latin typeface="Tahoma"/>
              </a:rPr>
              <a:t>Z. FROIDO PSIHOANALITINĖ ASMENYBĖS TEORIJA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struktūra: id, Ego, Super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Id: malonumo principas, refleksyvūs veiksmai, pirminiai proces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Ego (Aš): realybės principas, antriniai psichiniai proces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Superego: introjekcijos mechaniz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033"/>
                </a:solidFill>
                <a:latin typeface="Tahoma"/>
              </a:rPr>
              <a:t>Z. FROIDO PSIHOANALITINĖ ASMENYBĖS TEORIJA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er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Ego gynybiniai mechanizm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šstūmi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rojek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Reakcijos formavi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Fiksa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Regres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dentifika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akeitimai (pvz., sublimacij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smenybės raidos stadijos pagal </a:t>
            </a:r>
            <a:br>
              <a:rPr sz="3200"/>
            </a:br>
            <a:r>
              <a:rPr b="0" lang="en-GB" sz="3200" spc="-1" strike="noStrike">
                <a:solidFill>
                  <a:srgbClr val="330033"/>
                </a:solidFill>
                <a:latin typeface="Tahoma"/>
              </a:rPr>
              <a:t>Z. </a:t>
            </a: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Froidą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ystymosi stadi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Oralinė (nuo gimimo iki 18 mėn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nalinė (18 mėn. – 3 m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Falinė (3-6 m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Edipo, Elektros kompleks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Latentinė (6-12 m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Genitalinė (ėmus lytiškai bręs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041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NALITINĖ (gelmių)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C.G. JUNG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struktūra: Ego, individuali pasąmonė, kolektyvinė pasąmo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lektyvinė pasąmonė: archetip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nima ir Ani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Šešėl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Savas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NALITINĖ (gelmių)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C.G. JUNG 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kstraversija ir intravers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ąstymas, jausmai, pojūčiai ir intui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vystyma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aikystė ir jaunyst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idutinis amžius ir senatv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2:59:09Z</dcterms:created>
  <dc:creator>TADAS</dc:creator>
  <dc:description/>
  <dc:language>en-US</dc:language>
  <cp:lastModifiedBy> </cp:lastModifiedBy>
  <dcterms:modified xsi:type="dcterms:W3CDTF">2007-11-06T14:30:22Z</dcterms:modified>
  <cp:revision>17</cp:revision>
  <dc:subject/>
  <dc:title>INDIVIDAS IR ASMENYBĖ</dc:title>
</cp:coreProperties>
</file>