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82B-7EF4-42D7-9CFB-62B49DE7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935-8BB2-4AF5-8281-D0358DB2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3BB-A032-4E9E-8FDE-DBFC9A95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9BE-AEA2-4921-9ACB-E6BBB796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0DC-4DF3-4BAD-9084-320CADF8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6992-64B1-4B05-AE24-674650FF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7A54-3346-4FD6-B010-88E4642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F690-77EA-43D0-819E-8DDC6E1D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F396-0F9C-43C1-93DF-F86B15B9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6913-714D-4E65-B46E-626740A2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CB2-B9C4-4F70-8D4F-56CDA99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190-7516-4F01-9FC8-4912F1C7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F6FB-BA07-4C91-BACB-9262F6B0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D88C-6230-4F17-904B-6BCB95F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77E4-3A6C-42CA-B25A-0F30009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F5E5-1154-466F-9A2C-716711E1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DDD0-B1EE-4649-A60C-49ACDF1D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4E1-3F23-463D-B8AE-3CBFA3F3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F29-DBFA-4EEB-934B-2D5C22F3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A31-410D-4870-A7E0-B5A6474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292-051E-4245-9BD6-690F3189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108-C8B7-41EA-AD53-49D6B6B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5D1-5C38-4CEF-AF02-901275C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B48-6ED8-4D6C-AFDB-12B495FB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9B23-85C8-435B-A5AD-DA6D9FD677B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BD22-8FC4-474E-A362-4867FA3C9E7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imes New Roman"/>
              </a:rPr>
              <a:t>PSICHIKOS SAMPRATA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, SĄMONĖ,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NARKOTIKAI IR SĄMONĖ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aktyvios medžiagos (pagal poveikį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timuliuoj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lopin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aliucinoge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RIKLAUSOMYBĖ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liguistas potraukis vartoti narkotines medžiagas komforto būklei pasie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Z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viso organizmo funkcinės veiklos pakitimas, pasireiškiantis ryškiais psichiniais ir fiziniais sutrikimais, staiga nustojus vartoti narkoti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KLAUSOMYBĖS VYSTYMOSI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minuoja euforizuojantis poveikis, negatyvūs padariniai neįvertina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arkotikų veikiamas asmuo jaučia laisvę nuo baimės ir padidėjusį savigarbos jausm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giamas narkotikų poveikis iš lėto mažėja, norint pasiekti tą patį poveikį reikia didinti doz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 neigiamos. Atminties, dėmesio sutriki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klausomybės fazėje atsiranda smarkus dozės didinimas, kontrolės praradimas, santykių nutraukimas ir profesinio lygio smukima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roniškoje nykimo stadijoje aiškiai suprastėja narkotikų įsisavinimas. To pagrindas – prasidedantis organų pažeid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mogau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tai daugybės tikrovės atspindėjimo ir žmogaus elgsenos reguliavimo reiškinių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uma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: sąmonė ir pasąmon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 apibrėžiama kaip nuolatinis minčių, jausmų ir suvokimų srautas, kurį protarpiais įsisąmoniname (atrankinis dėmesy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s būsenos: budri ir pakitusios sąmonės būs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kelti sąmonės poky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kų sukeltos būs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iego kategorijos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 (Rapid eye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lus m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S BŪSENOS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ir sapnai. Miego faz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Atsipalaidavimo būsenoje, tačiau dar būdraujant, smegenų elektrinės bangos vadinamos alfa bangomi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ukrenta širdies dažnis, temperatūra, spaudimas. Bangose išryškėja </a:t>
            </a:r>
            <a:r>
              <a:rPr b="0" i="1" lang="lt-LT" sz="2300" spc="-1" strike="noStrike">
                <a:solidFill>
                  <a:srgbClr val="000000"/>
                </a:solidFill>
                <a:latin typeface="Arial"/>
              </a:rPr>
              <a:t>miego verpstė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ereinamoji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iliojo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REM (rapid eyes movements)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Miego stadijų kaita nakties metu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o sutrik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emi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rkoleps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iego apnė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ktinis siaub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nių medžiagų sukelti pokyč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0:42:46Z</dcterms:created>
  <dc:creator>TADAS</dc:creator>
  <dc:description/>
  <dc:language>en-US</dc:language>
  <cp:lastModifiedBy> </cp:lastModifiedBy>
  <dcterms:modified xsi:type="dcterms:W3CDTF">2007-08-30T15:15:34Z</dcterms:modified>
  <cp:revision>12</cp:revision>
  <dc:subject/>
  <dc:title>Slide 1</dc:title>
</cp:coreProperties>
</file>