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796088" cy="10075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796800" cy="10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0"/>
          </p:nvPr>
        </p:nvSpPr>
        <p:spPr>
          <a:xfrm>
            <a:off x="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1"/>
          </p:nvPr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40AC8DA-595B-42A3-8433-13C888BB28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13FAAB4-A133-4465-8B27-5CF8AF1CD24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3EACD5C-979B-4362-BEE7-23D25B373F2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B46488D-D01A-4DEE-A809-9392CA33128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48F4989-BCDF-4311-8B95-B099B4A09B4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03BFDCA-5315-472E-AF86-3F66814194A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5CF53C1-722E-4EC2-9E80-99B59B2DE43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BDFFA1A-348C-4DD1-A251-9D61D7863D7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53182B0-CFCD-48FE-BA51-EFC3A9C298A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86E1CC4-9341-49E6-9175-B7A5E90DEA9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B2E3D8C-72A0-45B7-B1EB-C6E8821BB8A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F019BCD-9FA3-4572-93B2-335E9182076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4D38514-B8E0-49A0-9484-B902073C3AA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D5292E0-28C8-4851-A3C2-F6F12FA41CA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B32B59E-3C6B-4DA5-BA4F-C6D41B28543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0224D98-BDF0-4E14-8C33-D3C374A21B4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3ED7E17-3D2A-45DB-A595-5CB9A1E3ED7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E12D028-58C6-46F0-A144-67CEDE5D25B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E86B9D2-B5F0-4810-AFC7-AD812FD87E7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4AB465F-BA66-43A1-97E0-D4295930227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A1AE90F-A368-451C-9117-60C07C3F818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7F756B9-0912-4A09-B492-1187B8E3E5A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9DEE873-7361-419D-B809-B7933FF1184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9A7FFB3-66E7-442F-8541-813FC9E7791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07E9C97-8CA5-4D58-8DD6-FC987E2B2C8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1C43845-7AAA-49C0-BE60-71FE2C8C484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45F0909-7DCF-4EEB-A4FB-02DF686FB07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K 6.265 str. 1 d. Jeigu asmuo, kuris nėra darbuotojas, vykdydamas kito asmens, kuris nėra darbdavys, duotą nurodymą, padaro žalos, tai abu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e asmenys atsako solidari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nimas -&gt; CK 6.718 str. 3 d. Paslaugų teikėjas privalo teikti paslaugas pagal sutarties sąlygas ir kliento nurodymus. Jei kliento nurodymai 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tarauja sutarties įstatymams, nusistovėjusioms profesinės veiklos taisyklėms, standartams, profesinės veiklos etikai ar sutarties sąlygoms, paslaugų teikėjas turi teisę atsisakyti vykdyti tokius nurodymus ir sutartį nutrauk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ektroninės komercijos direktyva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nustato atsakomybės i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mtis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mere conduit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tiesiog elgesio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kai paslaugų teikėjas nežino, kokia informacija siunčiama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laikino saugojimo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informacijos saugojimas) atvejais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atveju būtinos sąlygos yra nežinojimas, kad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 informacija ką nors pažeidžia, bei informacijos pa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alinimas nedelsiant gavus tokią informacij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6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7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1B5E04B-333E-4DBD-8E41-E2A2072151A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B1A06C1-B079-499B-825A-915CCBF04E3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91E9472-827D-4A70-B730-623188BC7BD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0DC00E7-C123-43C8-A08F-C73607E0D2B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08CAC7D-4E7A-4696-AEAE-19C47BD993A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A8B0F53-7342-4FBE-8C6A-32A202DDF11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8C6254F-D8F4-453A-9E15-471DCC3DA88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8B4620D-806E-4590-A387-7F305758FE6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5E3094C-4036-454B-BF35-0D73659FCD4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81382B6-CDF7-4C0C-8D24-DA64B587817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ED3619F-E8A9-4F51-8A05-18ABE726FE1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16F-C8B6-4725-929C-AB7D7B06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FF0-C809-423C-B9D6-B92CF23D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E72-476C-451E-8CDE-FAA791E4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69D-B60E-404C-8408-C9707106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49F1-199D-4592-9A7C-697EE765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3DFA-D914-459D-BD87-49D85E3C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3746-1BD7-4D7F-B212-1AE7BA7A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370-6412-4DFC-A289-F792F2B0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0C9F-2C6E-4E68-A03D-FE8CDCF6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A89C-C0B4-42E3-91A0-36199F65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BCD4-08FE-45ED-A648-028EEF93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F6A-8883-4122-9EAF-1F26155E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5E46-E191-46D9-A6DA-B1597104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37D4-AFE4-40B7-880D-F0CA6B3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AA86-1BF4-4C92-B168-B2C3FE31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AAAC-8693-4C0B-B361-D14F6F85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C231-8BEA-4901-B5FD-E88B8FCA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BA12E-14D3-4CE1-9FD0-D53B28DB17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F2AA6-52D8-46FF-9C3F-7FF042E927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9FF96-B4AE-417A-90A0-C89A12C778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D2D35-3835-4F07-83A7-C4704BB13C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159D99-F0FC-4ED2-A733-DA97B5358F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CD5-7A35-4748-8659-9F226C8D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CBEDF-D172-43D8-90C0-399C053F6C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84D7F-2394-4189-B687-28B1CEF589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9643C-F755-4EEC-A98C-11DF878F3E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7A815-575E-4AC4-9E08-8EC8933662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43F819-CCF4-436F-A5E4-B6D0214201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E1933-DC43-4B0C-9EF1-31CAC716A1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35812-D003-432C-BE8C-57738392F0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F5844-5505-47C1-AD85-FADABF5C15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DE6BC-0B38-43AB-BD6E-2491C95C78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9D9FB-A417-46A4-98F1-AE0347724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C04-59A6-4F2D-B44C-4BCC46B8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7A345-CA93-446D-95CC-D0D0C58082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BA84A-C858-4626-BEFC-BAD9985C47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84A7D-663D-4D3D-A335-FBF3AD5DC2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65137-15EA-4E15-8BA8-636FB19D62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B1C08-EDF6-4B7C-BF86-1A32C3711B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487DB-3FFC-4D70-BB4F-D51E575DDF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CE909-4CDC-4E84-871F-DCBC16B582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EB115-F8B0-452A-B663-D9CC89A183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245AF-A852-41D7-9334-209F2F6F0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409-922D-44CE-BA58-9E264F71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E3E-AEF2-433C-A142-D8C1CE34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937-D61B-4E67-9487-0903D9FE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284-AEC8-48A8-82E4-849F8BD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6F5-E844-4D94-8041-95CE71D7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-01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3581280"/>
            <a:ext cx="58752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4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8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ės komercijos teisinio reguliavimo pagrin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Funkcinis ekvivalentišk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alios erdvės institutų perkėlimo į elektroninę erdvę (pritaikymo šiai erdvei užtikrinimas) pagal šių institutų funkcij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dokument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udarymas galimybių, kad būtų įskaitomas; liktų nepakeistas bėgant laikui; galima būtų padaryti dokumento kopiją taip, kad kiekviena iš šalių turėtų tuos pačius duomenis; galima būtų patvirtinti duomenis parašu; pateikti formą, kuri būtų priimtina valstybės institucijoms, įskaitant teism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paraš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uoti asmenį; užtikrinti, kad pasirašymo veiksme asmuo dalyvavo asmeniškai; susieti asmenį su konkrečiu dokumentu (patvirtinimas, kad autorius patvirtino dokumento turinį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utarčių laisv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idžia sutarčių šalims (ypač verslas - verslui komercijoje) laisvai nusistatyti tarpusavio santykių principus ir formas ir įpareigoja valstybę pripažinti tokias sutartis (taip pat ir apsaugant iš jų kylančias tei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o parašo įstatymo 8 str. 3 d.: elektroninis parašas visais atvejais turi šio straipsnio 1 dalyje įtvirtintą teisinę galią (t.y., tokią pat teisinę galią kaip ir parašas rašytiniuose dokumentuose ir yra leistinas kaip įrodinėjimo priemonė teisme), jeigu parašų naudotojai tarpusavyje dėl to susita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ska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iek tai įmanoma valstybė turi ne pati kištis, o skatinti, kad normas bendru sutarimu kurtų elektroninio verslo dalyviai ir juos atstovaujančios organizacijos (panašu į darbo santykių reguliavimą, kai darbuotojai su darbdaviu pasirašo kolektyvinę sutartį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smens duomenų teisinė apsauga ir vartotoj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pareigoja valstybę ir kitus subjektus saugoti fizinių asmenų privatumą bei užtikrinti sąžiningą elgesį su jais prekybiniuose santykiuose (taip pat ir elektroniniame vers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o principo nuoseklus taikymas ugdo vartotojų pasitikėjimą elektronine komercija ir skatina vartojim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ugumo užtikr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mpa aktualesnis, kai elektroninė komercija atsiveria (naudojama ne uždaroje grupėje) ir naudoja globalius tink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NISA – Europos tinklų ir informacijos apsaugos agentūra (Heraklionas, Kreta, Graikij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is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atitikti tarptautinius teisės aktus, ir užtikrinti, kad teisiniai santykiai, atsiradę pagal vienos valstybės įstatymus, bus lygiaverčiai pripažįstami kitose valstybė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kišimasis (proporcingum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būti minimalus būtinas pasiekti konkretų tiksl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utorių teisių ir gretutinių teisi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jant informacines technologijas šias teises tampa vis lengviau pažeisti, todėl turi būti skiriamas specialus dėmesys autorių teisėms ir gretutinėms teisė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umas, prognozuojamumas, teisinis tikrumas ir teisėti lūkesčia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statymų leidyba ir teisės aktai turi užtikrinti, kad teisinis reguliavimas būtų aiškus ir nuspėjam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s principas apima ir 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retro non agit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(lot. Įstatymas negalioja atgal) taisykl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ės sutart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uropos Sąjungos, Europos Taryb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valomi viršnacionaliniai teisės ak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Reglamentai, direktyvos, sprendima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statymai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rmiausia – Civilinis kodeks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oįstatyminiai teisės aktai (</a:t>
            </a:r>
            <a:r>
              <a:rPr b="0" lang="lt-LT" sz="1600" spc="-1" strike="noStrike">
                <a:solidFill>
                  <a:srgbClr val="003366"/>
                </a:solidFill>
                <a:latin typeface="Arial"/>
              </a:rPr>
              <a:t>Vyriausybės nutarimai,  ministrų įsakymai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pročiai, doktrina ir tarptautinių organizacijų dokumen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urin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a teisės sistem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eguliavimo dalykas ir meto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ltini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. Beliackas v. UAB “Sabina” (elektroninių įrodymų pripažin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Lietuvos telekomo verslo sprendimai” ir AB “Lietuvos telekomas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D.B.S. Pte. Ltd.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ės organizacij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Bendrija (Europos Sąjung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iršnacionalinis pobūd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konominės plėtros ir bendradarbiavimo organizacija (OEC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o prekybos organizacija (WT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ungtinės tautos – Tarptautinės prekybos teisės komisija (UNCITR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ntelektinės nuosavybės organizacija (WIP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iai prekybos rūmai (IC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uropos Bendrija (Europos Sąjung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9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0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komercijos 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lektin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ės nuosavybė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teisi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ivatinės teisės harmon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konominės plėtros ir bendradarbiavimo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Centrinis tarptautinis išsivysčiusių valstybių forumas, kuria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pibendrinama įvairių valstybių prakt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eškoma unifikuotų e-komercijos sureguliavimo modeli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BPO rekomenda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eisiškai neprivalo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įtvirtina stiprius valstybių-narių moralinius/politinius įsipareigojimu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ekretoriato atlikta analizė, surinkti duomenys valstybėms-narėms padeda efektyviau atlikti koordinuotą darb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prekybo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saulinės prekybos liberal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TS – bendrasis susitarimas dėl prekybos paslaugom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IPS – susitarimas dėl intelektinės nuosavybės aspektų, susijusių su preky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Jungtinių tautų tarptautinės prekybos teisės komis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ekybos teisės harmonizavimas ir kod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6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ės komercijos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1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ių parašų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intelektinės nuosavybė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ų sutarčių intelektinės nuosavybės srityje rengimas ir administr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utorių teisi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tlikimų ir fonogram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omenų vardų, kaip galimai naujų intelektinės nuosavybės objektų, statuso tyrimai ir susijusių ginčų sprend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olektyvinis reguliavimas, siekiant suderinti bendrus interesus be valstybės pagalb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jusi su elektroninės komercijos reguliavimo evoliucija 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electronic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val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reitas, pigus ir efektyv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žeidimo pašal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mybė reaguoti į nepriimtiną, nors teisėtą elges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Masinis komercinis paštas iki 2001 01 01 Lietuvoje nebuvo draudžiamas teisės aktais, bet buvo reguliuojamas bendrų savireguliacijos priemoni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trūk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ėra tiesiogiai priverstinai įvykdo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Gali būti taikomos sutartinės sankcij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miamasi savireguliacija kaip paproči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 tapti didesnę įtaką turinčių interneto subjektų (pvz., interneto paslaugų teikėjų) piktnaudžiavi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Visada išlieka valstybės nustatytos taisyklės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konkurencijos teisė, vartotojų apsauga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ieta teisės sistem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ės komercijos teisė – pirmiausia komercinė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endrosios komercinės teisės institutai (šalys, sandor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odifikuoti institutai (elektroninis parašas, elektroninė sutart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ordinatė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ošakis – komercinė; šaka – civilinė; privatinės teisės dal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x mercatoria – viduramžiuose susiformavusi paprotinė komercinė (pirklių)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alogiška elektroninės komercijos teisės pradž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uo pat pradžių buvo nereguliuojamas valstybės, o dauguma elgesio taisyklių susiklostė kaip savireguliacijos sukurti paproči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ėra ribojamas valstybių sienų, todėl sunku taikyti konkrečios valstybės prievartos priem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resursai dažniausiai valdomi privačių subjekt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ai, kaip interneto resursų turėtojai, dažnai atsiduria tarp pažeidėjo ir nukentėjus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ų teisinės atsakomybės už vartotojų skleidžiamą informaciją įtvirtinimas teisės aktu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formalių elgesio taisyklių skatinimas teisės akta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eisminių ginčų sprendimo būdų skatinimas (pvz., domenų vardų galimo piratavimo (angl. cybersquatting) ginčų sprendimas arbitražo forma ne teis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iqu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FC 1855, RFC 108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mus elementarių pageidautino elgesio internete taisyklių rinki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isyklių 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siųsti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ar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ų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(piktų) žinučių (angl. fl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i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la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vien didžiosiomis raidėmis (TAI LAIKOMA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AUKIM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ternet Corporation of 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gned Names and Numbers (ICAN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kurta 1998 m. perėmė funkcijas iš JA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pelno organizacija, atsakinga už IP adresų ir domenų vardų naudojim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Direktoriai renkami interneto subjektų (5 iš 19 tiesioginiais rinkimais renka interneto vartotoja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990000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28440" y="2361960"/>
            <a:ext cx="7986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iform Domain Name Dispute Resolution Policy (UDR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Sukurtas pagal Pasaulinės intelektinės nuosavybės organizacijos (angl. WIPO) rekomendacij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Įtraukiama į daugelio bendrinių domenų vardų (gTLDs) registravimo sutarti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Ginčus sprendžia nepriklausomų (ICANN paskirtų) organizacijų sudarytos kolegijos (administrative pane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Rezultatas: domeno vardo perdavimas kitam subjektu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Nedraudžiama spręsti ginčo teisme (tai nėra arbitraža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Dauguma ginčų baigiama be nagrinėjimo teis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il Abuse Prevention System (MA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 sąrašą įtraukiami IP adresai, iš kurių masiškai siunčiamas nepageidaujamas komercinis paš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grindiniai Interneto paslaugų teikėjai (pvz., Teleglobe, EUnet International, kt.) blokuoja informaciją, kuri siunčiama iš/į šiuos adres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guliavimo objektas ir meto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Objektas - elektroninė komercija (visuomeniniai santykiai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varbiausia ne santykių objektas (iš esmės tapatus bendrajai komercinei teisei), o vykdymo bū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Metod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yraujantis dispozityvus (ypač B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 komerc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ygios šaly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mperatyvaus metodo elementai (ypač vartotojų apsauga, asmens duomenų apsaug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Administracinis pavaldu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dovaujančios idėjos, esančios reguliavimo pagrin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j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glamentacin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ės aišk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ragų pildy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lizijų šal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formos nediskriminav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nio neutralumo (atvir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nio ekvivalentišk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os skat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teisinės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ugumo užtikr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o pripaž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aus kišimosi (proporcing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utorių teisių ir gretutinių teisi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umo, prognozuojamumo, teisinio tikrumo, teisėtų lūkesči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ės formos nediskrimin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formacijos teisinis efektyvumas, galiojimas ir įgyvendinimas negali būti paneigtas vien tik tuo pagrindu, kad ši informacija yra elektroninis duomenų praneš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NCITRAL Model Law on Electronic Comme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vz., el. parašas negali būti laikomas negaliojančiu dėl to, kad yra elektroninis (Elektroninio parašo įst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tr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nis neutral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ės aktų (ar valstybės politikos) siejimo su konkrečiomis technologijomis veng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ualumo principas - leidžia diferencijuoti skirtingas technologijas pagal jų patikimumą (elektroninis parašas, saugus (angl. advanced) elektroninis parašas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08:50Z</dcterms:created>
  <dc:creator>Tomas Lamanauskas</dc:creator>
  <dc:description/>
  <dc:language>en-US</dc:language>
  <cp:lastModifiedBy>Egle</cp:lastModifiedBy>
  <dcterms:modified xsi:type="dcterms:W3CDTF">2008-10-04T08:13:07Z</dcterms:modified>
  <cp:revision>27</cp:revision>
  <dc:subject/>
  <dc:title>PowerPoint Presentation</dc:title>
</cp:coreProperties>
</file>