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796088" cy="10075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796800" cy="10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0"/>
          </p:nvPr>
        </p:nvSpPr>
        <p:spPr>
          <a:xfrm>
            <a:off x="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1"/>
          </p:nvPr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30B2DD8-FE90-485C-ADFB-6A58A7CFBD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29435A8-4AE0-43B7-9798-F020368FB20F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B17A3C6-E6A7-4F09-A2C7-00B7D876179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DEFB0B0-4797-47E7-A969-533AC8A163C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094251C-8508-4296-AE7A-DC8F07D2ADBB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7CD7DE4-2C08-48BE-9A90-7CFDD1C6396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05AD3A6-4876-431C-9C38-BD9C58C01DE8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B79F46C-4E50-442F-A4BB-C03738B0725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694EE2B-7CEB-44D3-8FBF-6E3A9D047D7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A816603-8C96-41A4-BFC4-6E8DC4ACDE9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85163AE-5361-4B22-A19F-2D81DB6C115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A68A33F-9C13-4448-963E-AC9E7DAAD10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FBCEFAC-A13D-4222-8E8A-4A467833F24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5823F93-FF6C-428D-ADE6-0832AC0BBA7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F7F68E6-4A95-4EC6-8AC2-D43A26E642B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D6E2D6D-A76C-4926-A42A-78ADE4C468FB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EB699DB-9CBF-4151-B38A-DEBBB8B91B9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896D3C5-9F94-4C31-BA89-F37380CCAD7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613A8D2-2263-4C79-9478-D7934EA51221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BA8645E-1F5A-494F-BE57-0D2A8D4C908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87E8B7F-6F14-40A8-87EC-6E97DA171679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40A3A64-003B-4A91-B7AC-4CCAA7AFD4F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1769DE6-48D5-40DE-9B6F-C30498C54866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0CFB97A-7C42-4E72-BE7D-9B8BBF9772B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9B57401-C66E-4387-8506-4A36C3F17AE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3CE85C1-07B6-4CC3-8C46-2598AF8F097C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06D987F-A43C-476B-AB25-F78DEA6BB310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K 6.265 str. 1 d. Jeigu asmuo, kuris nėra darbuotojas, vykdydamas kito asmens, kuris nėra darbdavys, duotą nurodymą, padaro žalos, tai abu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e asmenys atsako solidari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nimas -&gt; CK 6.718 str. 3 d. Paslaugų teikėjas privalo teikti paslaugas pagal sutarties sąlygas ir kliento nurodymus. Jei kliento nurodymai prie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tarauja sutarties įstatymams, nusistovėjusioms profesinės veiklos taisyklėms, standartams, profesinės veiklos etikai ar sutarties sąlygoms, paslaugų teikėjas turi teisę atsisakyti vykdyti tokius nurodymus ir sutartį nutrauk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ektroninės komercijos direktyva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nustato atsakomybės i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mtis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mere conduit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tiesiog elgesio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kai paslaugų teikėjas nežino, kokia informacija siunčiama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laikino saugojimo),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(informacijos saugojimas) atvejais.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Hosting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 atveju būtinos sąlygos yra nežinojimas, kad 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i informacija ką nors pažeidžia, bei informacijos pa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alinimas nedelsiant gavus tokią informacij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6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El. Komercijos direktyvos 17 st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FBD246E-BCDA-406B-B806-17071123588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7764B2A-7FDA-4B1D-8C70-64D91B6310EE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5D9D0C6-7F36-4891-8859-D319B37E6E6A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0C482F3-1FD8-46BC-8918-51A4E0F81385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77BAB25-56DB-49B2-870F-51760F7F5A2D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7B5AD0E-FE5C-4B45-A09C-9A5A6199BFD4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F3253CC-B932-4B65-BA6C-285E62ED84A7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234554B-E079-441B-9E30-24CD3A4DB07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11CF2D3-F8A9-495F-8312-2D6A24A26D33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B7A5188-CFC9-4B13-8F85-C5D8A6B37B62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78040" y="755640"/>
            <a:ext cx="5040000" cy="3780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85840"/>
            <a:ext cx="4984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52720" y="9574200"/>
            <a:ext cx="294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44CDC8E-8541-4C0B-9C56-D69E58C667E0}" type="slidenum">
              <a:rPr b="0" lang="en-GB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B81-77A4-488D-A749-4AA87B56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78D-29F6-4C8A-8891-8A1BC32C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316-4A0B-4D06-BB2F-BFDD524B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B85-B8AA-47E9-B195-93463655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6DDD-6C4F-4F90-AB6B-D7F53464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4250-40DA-45C6-A3F0-CAEB63E1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EF9D-78B7-4B0E-A06B-F5A17F03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C010-33E4-4A0F-979E-FFE5DDFF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3EEE-B099-48EB-B556-B0119AAB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16AE-6027-491F-99C5-D02B623E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1C3E-41B4-41CB-8095-91ABDBDD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B42-09D0-45EF-8DE3-388EBB99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7420-96E5-4285-928A-7BF55041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C9CA-E2F3-4142-83E6-C45C633E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2936-BAC1-4C3F-9F3B-082AB6B1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7F45-F7A3-4FD1-9D58-2A37BC17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756B-AC48-4808-BBBA-952C477B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2A241-EA47-45FD-8F2C-3F93F13A83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D3099-863E-4D8A-A6C3-F624F5B6FA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020E07-001E-45C5-9967-1048783220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425403-C2B6-41C2-8CB4-E305938B85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E766D-004F-4F34-9AAC-DDA204C24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762-BBF4-4D50-88F9-83179BC9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B3CD7-93AB-4B18-8333-F95A10792F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08AF0F-3CAD-41C8-841A-B6A4F1872F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8A9DA-70B8-4ECA-944C-2837BC224D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46395-6110-41CD-AB40-3C14079DB5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68DB11-F153-4B4E-BACC-38B8D084EE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11272F-D7B1-4A12-9B7E-443A701738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27BDF-BD47-4B84-B3FB-9A222255FA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0C760-71F1-4E0C-BF62-4D48BBEBA0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18996-035E-4A30-B18C-D6A67FBEA9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8DF25-7748-42F0-8CC4-A4D068CC7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975-1699-4B76-82CB-82C5EC2C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CA66C-DC69-4B90-831A-CAD387AC02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975CB-4BA4-4FB4-B9F9-B7AA7E11DF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1A787-5257-4DA3-A491-FF67D07712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06EF6-C05B-44E5-A2DA-7AA398C61D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64F06-C89E-4BA6-A560-6FC5D4278F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AC706-5E6F-48A3-B499-3C13DD0CE7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2CAC1-1FB2-4474-865D-6943C90EAF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0BB00-CE06-42A7-9497-8B41D7E1D9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7EF4D-7438-4C6B-904B-4EA04F8E4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31D-058F-4B3B-8FA6-9E17C2C8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066-5EA2-44EA-B893-F96E065D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D41-FC1A-448A-9975-5CAD3E96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647-9543-4607-AF95-B1A87042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EB6-A5C3-418C-972F-E9D41AF7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-01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3581280"/>
            <a:ext cx="58752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45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8"/>
          </p:nvPr>
        </p:nvSpPr>
        <p:spPr>
          <a:xfrm>
            <a:off x="83880" y="3565080"/>
            <a:ext cx="587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ės komercijos teisinio reguliavimo pagrin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Funkcinis ekvivalentišk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alios erdvės institutų perkėlimo į elektroninę erdvę (pritaikymo šiai erdvei užtikrinimas) pagal šių institutų funkcij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dokument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udarymas galimybių, kad būtų įskaitomas; liktų nepakeistas bėgant laikui; galima būtų padaryti dokumento kopiją taip, kad kiekviena iš šalių turėtų tuos pačius duomenis; galima būtų patvirtinti duomenis parašu; pateikti formą, kuri būtų priimtina valstybės institucijoms, įskaitant teism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parašo funk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uoti asmenį; užtikrinti, kad pasirašymo veiksme asmuo dalyvavo asmeniškai; susieti asmenį su konkrečiu dokumentu (patvirtinimas, kad autorius patvirtino dokumento turinį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utarčių laisv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idžia sutarčių šalims (ypač verslas - verslui komercijoje) laisvai nusistatyti tarpusavio santykių principus ir formas ir įpareigoja valstybę pripažinti tokias sutartis (taip pat ir apsaugant iš jų kylančias tei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o parašo įstatymo 8 str. 3 d.: elektroninis parašas visais atvejais turi šio straipsnio 1 dalyje įtvirtintą teisinę galią (t.y., tokią pat teisinę galią kaip ir parašas rašytiniuose dokumentuose ir yra leistinas kaip įrodinėjimo priemonė teisme), jeigu parašų naudotojai tarpusavyje dėl to susitar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ska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iek tai įmanoma valstybė turi ne pati kištis, o skatinti, kad normas bendru sutarimu kurtų elektroninio verslo dalyviai ir juos atstovaujančios organizacijos (panašu į darbo santykių reguliavimą, kai darbuotojai su darbdaviu pasirašo kolektyvinę sutartį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smens duomenų teisinė apsauga ir vartotoj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pareigoja valstybę ir kitus subjektus saugoti fizinių asmenų privatumą bei užtikrinti sąžiningą elgesį su jais prekybiniuose santykiuose (taip pat ir elektroniniame vers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o principo nuoseklus taikymas ugdo vartotojų pasitikėjimą elektronine komercija ir skatina vartojim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ugumo užtikr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mpa aktualesnis, kai elektroninė komercija atsiveria (naudojama ne uždaroje grupėje) ir naudoja globalius tink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NISA – Europos tinklų ir informacijos apsaugos agentūra (Heraklionas, Kreta, Graikij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is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atitikti tarptautinius teisės aktus, ir užtikrinti, kad teisiniai santykiai, atsiradę pagal vienos valstybės įstatymus, bus lygiaverčiai pripažįstami kitose valstybė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kišimasis (proporcinguma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is reguliavimas turi būti minimalus būtinas pasiekti konkretų tikslą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utorių teisių ir gretutinių teisių apsau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jant informacines technologijas šias teises tampa vis lengviau pažeisti, todėl turi būti skiriamas specialus dėmesys autorių teisėms ir gretutinėms teisė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umas, prognozuojamumas, teisinis tikrumas ir teisėti lūkesčia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Įstatymų leidyba ir teisės aktai turi užtikrinti, kad teisinis reguliavimas būtų aiškus ir nuspėjam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is principas apima ir 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retro non agit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(lot. Įstatymas negalioja atgal) taisykl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ės sutart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uropos Sąjungos, Europos Taryb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valomi viršnacionaliniai teisės ak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Reglamentai, direktyvos, sprendima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statymai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rmiausia – Civilinis kodeks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oįstatyminiai teisės aktai (</a:t>
            </a:r>
            <a:r>
              <a:rPr b="0" lang="lt-LT" sz="1600" spc="-1" strike="noStrike">
                <a:solidFill>
                  <a:srgbClr val="003366"/>
                </a:solidFill>
                <a:latin typeface="Arial"/>
              </a:rPr>
              <a:t>Vyriausybės nutarimai,  ministrų įsakymai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pročiai, doktrina ir tarptautinių organizacijų dokument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urin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a teisės sistem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eguliavimo dalykas ir meto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rincip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ltini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Šaltin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mų prakt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. Beliackas v. UAB “Sabina” (elektroninių įrodymų pripažin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Lietuvos telekomo verslo sprendimai” ir AB “Lietuvos telekomas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Ž. Budros IĮ “Sėkmės sistemos” v. UAB “D.B.S. Pte. Ltd.” (neteisėtas masinis komercinis paš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arptautinės organizacij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Bendrija (Europos Sąjung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iršnacionalinis pobūd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konominės plėtros ir bendradarbiavimo organizacija (OEC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o prekybos organizacija (WT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ungtinės tautos – Tarptautinės prekybos teisės komisija (UNCITR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aul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ntelektinės nuosavybės organizacija (WIP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rptautiniai prekybos rūmai (IC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uropos Bendrija (Europos Sąjung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9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0 m.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komercijos direkty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lektin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ės nuosavybė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teisių apsaugos direkty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ivatinės teisės harmon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konominės plėtros ir bendradarbiavimo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Centrinis tarptautinis išsivysčiusių valstybių forumas, kuriam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pibendrinama įvairių valstybių prakt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eškoma unifikuotų e-komercijos sureguliavimo modeli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BPO rekomendacij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eisiškai neprivalo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įtvirtina stiprius valstybių-narių moralinius/politinius įsipareigojimu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ekretoriato atlikta analizė, surinkti duomenys valstybėms-narėms padeda efektyviau atlikti koordinuotą darb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prekybo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saulinės prekybos liberaliz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TS – bendrasis susitarimas dėl prekybos paslaugom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IPS – susitarimas dėl intelektinės nuosavybės aspektų, susijusių su preky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Jungtinių tautų tarptautinės prekybos teisės komis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ės prekybos teisės harmonizavimas ir kod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96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ės komercijos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001 m. P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vyzdinis elektroninių parašų įstaty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asaulio intelektinės nuosavybės organiz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ų sutarčių intelektinės nuosavybės srityje rengimas ir administr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utorių teisi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WIPO Atlikimų ir fonogramų sutar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omenų vardų, kaip galimai naujų intelektinės nuosavybės objektų, statuso tyrimai ir susijusių ginčų sprend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olektyvinis reguliavimas, siekiant suderinti bendrus interesus be valstybės pagalb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jusi su elektroninės komercijos reguliavimo evoliucija 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lex electronic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val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reitas, pigus ir efektyvu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žeidimo pašal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mybė reaguoti į nepriimtiną, nors teisėtą elges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vz., Masinis komercinis paštas iki 2001 01 01 Lietuvoje nebuvo draudžiamas teisės aktais, bet buvo reguliuojamas bendrų savireguliacijos priemoni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trūkum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ėra tiesiogiai priverstinai įvykdom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Gali būti taikomos sutartinės sankcij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miamasi savireguliacija kaip paproči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Gali tapti didesnę įtaką turinčių interneto subjektų (pvz., interneto paslaugų teikėjų) piktnaudžiavi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Visada išlieka valstybės nustatytos taisyklės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konkurencijos teisė, vartotojų apsauga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ieta teisės sistem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ės komercijos teisė – pirmiausia komercinė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endrosios komercinės teisės institutai (šalys, sandor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odifikuoti institutai (elektroninis parašas, elektroninė sutart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ordinatė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ošakis – komercinė; šaka – civilinė; privatinės teisės dal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x mercatoria – viduramžiuose susiformavusi paprotinė komercinė (pirklių) teis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alogiška elektroninės komercijos teisės pradž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uo pat pradžių buvo nereguliuojamas valstybės, o dauguma elgesio taisyklių susiklostė kaip savireguliacijos sukurti paproči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as nėra ribojamas valstybių sienų, todėl sunku taikyti konkrečios valstybės prievartos priem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akt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resursai dažniausiai valdomi privačių subjekt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ai, kaip interneto resursų turėtojai, dažnai atsiduria tarp pažeidėjo ir nukentėjus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avireguliacijos priela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inė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nterneto paslaugų teikėjų teisinės atsakomybės už vartotojų skleidžiamą informaciją įtvirtinimas teisės aktu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formalių elgesio taisyklių skatinimas teisės aktai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eisminių ginčų sprendimo būdų skatinimas (pvz., domenų vardų galimo piratavimo (angl. cybersquatting) ginčų sprendimas arbitražo forma ne teis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tiquet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FC 1855, RFC 108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mus elementarių pageidautino elgesio internete taisyklių rinki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aisyklių 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siųsti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ar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ų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(piktų) žinučių (angl. fl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si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lai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ra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yti vien didžiosiomis raidėmis (TAI LAIKOMA </a:t>
            </a:r>
            <a:r>
              <a:rPr b="0" lang="lt-LT" sz="24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AUKIM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ternet Corporation of 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gned Names and Numbers (ICAN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kurta 1998 m. perėmė funkcijas iš JA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pelno organizacija, atsakinga už IP adresų ir domenų vardų naudojim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Direktoriai renkami interneto subjektų (5 iš 19 tiesioginiais rinkimais renka interneto vartotoja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990000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28440" y="2361960"/>
            <a:ext cx="7986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iform Domain Name Dispute Resolution Policy (UDR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Sukurtas pagal Pasaulinės intelektinės nuosavybės organizacijos (angl. WIPO) rekomendacij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Įtraukiama į daugelio bendrinių domenų vardų (gTLDs) registravimo sutarti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Ginčus sprendžia nepriklausomų (ICANN paskirtų) organizacijų sudarytos kolegijos (administrative pane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Rezultatas: domeno vardo perdavimas kitam subjektu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Nedraudžiama spręsti ginčo teisme (tai nėra arbitraža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3366"/>
                </a:solidFill>
                <a:latin typeface="Arial"/>
              </a:rPr>
              <a:t>Dauguma ginčų baigiama be nagrinėjimo teism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Veikiantys savireguliacijos pavyzdži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il Abuse Prevention System (MA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Į sąrašą įtraukiami IP adresai, iš kurių masiškai siunčiamas nepageidaujamas komercinis paš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grindiniai Interneto paslaugų teikėjai (pvz., Teleglobe, EUnet International, kt.) blokuoja informaciją, kuri siunčiama iš/į šiuos adres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guliavimo objektas ir meto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Objektas - elektroninė komercija (visuomeniniai santykiai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varbiausia ne santykių objektas (iš esmės tapatus bendrajai komercinei teisei), o vykdymo bū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Metod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yraujantis dispozityvus (ypač B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 komerc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ygios šaly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mperatyvaus metodo elementai (ypač vartotojų apsauga, asmens duomenų apsaug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Administracinis pavaldu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dovaujančios idėjos, esančios reguliavimo pagrin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j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Reglamentacin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eisės aišk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ragų pildy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Kolizijų šali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ės formos nediskriminav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nio neutralumo (atvir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Funkcinio ekvivalentišk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vireguliacijos skat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smens duomenų teisinės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artotoj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Princip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ugumo užtikr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rptautinio pripaži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aus kišimosi (proporcingu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utorių teisių ir gretutinių teisių apsau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umo, prognozuojamumo, teisinio tikrumo, teisėtų lūkesči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ės formos nediskrimin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nformacijos teisinis efektyvumas, galiojimas ir įgyvendinimas negali būti paneigtas vien tik tuo pagrindu, kad ši informacija yra elektroninis duomenų praneš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NCITRAL Model Law on Electronic Comme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vz., el. parašas negali būti laikomas negaliojančiu dėl to, kad yra elektroninis (Elektroninio parašo įst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tr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.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nis neutralu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isės aktų (ar valstybės politikos) siejimo su konkrečiomis technologijomis veng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ualumo principas - leidžia diferencijuoti skirtingas technologijas pagal jų patikimumą (elektroninis parašas, saugus (angl. advanced) elektroninis parašas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4:08:50Z</dcterms:created>
  <dc:creator>Tomas Lamanauskas</dc:creator>
  <dc:description/>
  <dc:language>en-US</dc:language>
  <cp:lastModifiedBy>Egle</cp:lastModifiedBy>
  <dcterms:modified xsi:type="dcterms:W3CDTF">2008-10-04T08:13:07Z</dcterms:modified>
  <cp:revision>27</cp:revision>
  <dc:subject/>
  <dc:title>PowerPoint Presentation</dc:title>
</cp:coreProperties>
</file>