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474-453A-40E0-AAE3-DC42490B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80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6920" y="4035960"/>
            <a:ext cx="80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B61-40C8-42B1-ABC9-1146DA2D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60440" y="162864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6920" y="403596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60440" y="403596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C90B-F82A-4715-AF84-0976C8F3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259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54280" y="1628640"/>
            <a:ext cx="259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81640" y="1628640"/>
            <a:ext cx="259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6920" y="4035960"/>
            <a:ext cx="259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54280" y="4035960"/>
            <a:ext cx="259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81640" y="4035960"/>
            <a:ext cx="259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137-4B66-4E84-9F5F-2193E293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9B13-381E-4867-8242-B3275C8C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6920" y="1628640"/>
            <a:ext cx="8066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5721-06B2-44AD-9836-9AF9234A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8066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2F0A-1238-4DEB-8811-11A3868B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3936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0440" y="1628640"/>
            <a:ext cx="3936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D95D-A30D-4E53-8FE3-C4AF2DF2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37F0-D377-4287-B7C1-B3EBB848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71280" y="189000"/>
            <a:ext cx="779292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6F5E-B509-4F1A-801A-1CF2D4BC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0440" y="1628640"/>
            <a:ext cx="3936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6920" y="403596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8956-D1C1-4746-A716-4CFDDD99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6920" y="1628640"/>
            <a:ext cx="806616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802-38C4-4A1F-94AF-F68A014D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3936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60440" y="162864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60440" y="403596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932F-E0C0-4253-88D3-72FF27AF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60440" y="162864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4035960"/>
            <a:ext cx="80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4E8E-8DF4-4220-8DC9-AF5869DE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80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6920" y="4035960"/>
            <a:ext cx="80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AFC0-CB7B-45D5-82F5-AB91F662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60440" y="162864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6920" y="403596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60440" y="403596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88C9-12F1-4F30-A99D-6B7CA79D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259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54280" y="1628640"/>
            <a:ext cx="259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1640" y="1628640"/>
            <a:ext cx="259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6920" y="4035960"/>
            <a:ext cx="259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54280" y="4035960"/>
            <a:ext cx="259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81640" y="4035960"/>
            <a:ext cx="259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FD18-5E38-4D6D-B663-C33FBAC2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8066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2A7-ED2C-4714-AE8B-4483F1A8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3936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60440" y="1628640"/>
            <a:ext cx="3936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246-3C2E-461F-B7E2-87E32F32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7FE-5816-4524-8C3E-1B8F60CD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71280" y="189000"/>
            <a:ext cx="779292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CC6-AC70-40D2-B860-5B154124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628640"/>
            <a:ext cx="3936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6920" y="403596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57B-C570-4AA9-9EC0-657F8A79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39362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62864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60440" y="403596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C4D-698D-4F47-B9BE-9501EF5E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0440" y="1628640"/>
            <a:ext cx="39362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6920" y="4035960"/>
            <a:ext cx="80661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F25E-165D-49E6-9CD4-3DA70114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527040" y="11224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5"/>
          <p:cNvSpPr/>
          <p:nvPr/>
        </p:nvSpPr>
        <p:spPr>
          <a:xfrm>
            <a:off x="911160" y="112248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62120" y="57636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442800" y="136692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26920" y="1628640"/>
            <a:ext cx="8066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B603-2175-4381-81A6-C343FE1D4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11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6920" y="1628640"/>
            <a:ext cx="80661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8821-76CB-40DB-8F08-C6EDDDD54BF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6000" y="1699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ahoma"/>
              </a:rPr>
              <a:t>C  programavimo kalba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042920" y="3716280"/>
            <a:ext cx="72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1" lang="lt-LT" sz="2000" spc="-1" strike="noStrike">
                <a:solidFill>
                  <a:srgbClr val="333399"/>
                </a:solidFill>
                <a:latin typeface="Tahoma"/>
              </a:rPr>
              <a:t> paskaita </a:t>
            </a:r>
            <a:br>
              <a:rPr sz="2000"/>
            </a:br>
            <a:r>
              <a:rPr b="1" lang="lt-LT" sz="20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(Eilu</a:t>
            </a:r>
            <a:r>
              <a:rPr b="1" lang="lt-LT" sz="2000" spc="-1" strike="noStrike">
                <a:solidFill>
                  <a:srgbClr val="333399"/>
                </a:solidFill>
                <a:latin typeface="Tahoma"/>
              </a:rPr>
              <a:t>čių funkcijos, duomenų failai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99"/>
                </a:solidFill>
                <a:latin typeface="Tahoma"/>
              </a:rPr>
              <a:t>Eilutės pavyzdy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50920" y="1989000"/>
            <a:ext cx="655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&lt;stdio.h&gt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main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[]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“Sveiki, kaip laikotes?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char str2[40];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int i = 0; i &lt; strlen(str1); i++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2[i] = str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2[i] = ‘\0’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//  arba papra</a:t>
            </a:r>
            <a:r>
              <a:rPr b="0" lang="lt-LT" sz="1800" spc="-1" strike="noStrike">
                <a:solidFill>
                  <a:srgbClr val="000066"/>
                </a:solidFill>
                <a:latin typeface="Tahoma"/>
              </a:rPr>
              <a:t>šč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au  strcpy( str2, str1 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932360" y="1700280"/>
            <a:ext cx="4067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 Eil[8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int i,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 = 'a' - 'A';   // Atstumas tarp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raidžių kodų lentelė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rintf( "Įveskite eilutę mažosiom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raidėmis ir be tarpų\n";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canf (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%s”,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Ei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for(i=0; Eil[i] != '\0'; i++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if (Eil[i] &gt;= 'a'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Eil[i] -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f(“%s”, Eil)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4749840" y="1379520"/>
            <a:ext cx="0" cy="5184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99"/>
                </a:solidFill>
                <a:latin typeface="Tahoma"/>
              </a:rPr>
              <a:t>ASCII lentelė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7" name="Picture 4" descr="ASCII1"/>
          <p:cNvPicPr/>
          <p:nvPr/>
        </p:nvPicPr>
        <p:blipFill>
          <a:blip r:embed="rId1"/>
          <a:stretch/>
        </p:blipFill>
        <p:spPr>
          <a:xfrm>
            <a:off x="0" y="1670040"/>
            <a:ext cx="4800600" cy="514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ascii2"/>
          <p:cNvPicPr/>
          <p:nvPr/>
        </p:nvPicPr>
        <p:blipFill>
          <a:blip r:embed="rId2"/>
          <a:stretch/>
        </p:blipFill>
        <p:spPr>
          <a:xfrm>
            <a:off x="4815000" y="1670040"/>
            <a:ext cx="4329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ilu</a:t>
            </a:r>
            <a:r>
              <a:rPr b="0" lang="lt-LT" sz="4000" spc="-1" strike="noStrike">
                <a:solidFill>
                  <a:srgbClr val="000099"/>
                </a:solidFill>
                <a:latin typeface="Tahoma"/>
              </a:rPr>
              <a:t>čių lyginima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55640" y="1700280"/>
            <a:ext cx="77770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int strcmp(const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tr1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, const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tr2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alygina dvi eilutes 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str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r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r2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. Lygina eilutes, pradedant pirmaisiais simboliais iki tol,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kol bus surasti nesutampantys simboliai arba bus surasta vienos iš eiluči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abaig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Skiria did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žiąsias ir mažąsias raid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403280" y="3357720"/>
          <a:ext cx="6624720" cy="1655640"/>
        </p:xfrm>
        <a:graphic>
          <a:graphicData uri="http://schemas.openxmlformats.org/drawingml/2006/table">
            <a:tbl>
              <a:tblPr/>
              <a:tblGrid>
                <a:gridCol w="3314880"/>
                <a:gridCol w="3309840"/>
              </a:tblGrid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igu s1 y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3e7b9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cmp grąžina reikšmę, kuri yr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ccff"/>
                        </a:gs>
                        <a:gs pos="100000">
                          <a:srgbClr val="3e7b9a"/>
                        </a:gs>
                      </a:gsLst>
                      <a:lin ang="5400000"/>
                    </a:gradFill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žesnė už eilutę 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tiksliau -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ygi eilutei 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esnė už eilutę s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tiksliau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 Box 68"/>
          <p:cNvSpPr/>
          <p:nvPr/>
        </p:nvSpPr>
        <p:spPr>
          <a:xfrm>
            <a:off x="826920" y="5157720"/>
            <a:ext cx="763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vyzdy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 str1[]=“Jonas joja arkliu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 str2[]=“jonas joja arkliu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 i = strcmp(str1, str2);   // i bus &lt; 0, nes str1 Jonas turi “J”, o str2 “j”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ilu</a:t>
            </a:r>
            <a:r>
              <a:rPr b="0" lang="lt-LT" sz="4000" spc="-1" strike="noStrike">
                <a:solidFill>
                  <a:srgbClr val="000099"/>
                </a:solidFill>
                <a:latin typeface="Tahoma"/>
              </a:rPr>
              <a:t>čių lyginima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755640" y="172080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int st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cmp(const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, const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alygina eilutes, kaip ir ankstesn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unkcija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, tik mažąsias ir didžiąsias raides laik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vienodomis. Gražinamos analogiškos reikšmės, kaip ir </a:t>
            </a: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strcmp()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atvej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avyzdy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:  s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[ ] = “Moo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2[ ] = “MOON”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 j = stricmp(str1, str2);     // j =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int st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cmp(const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, const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size_t  num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alygin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u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irmų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boli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ų iš abiejų eilučių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kiria did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žiąsias ir mažąsias raides. Kaip ir ankstesnė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unkcij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os grąžina tas pačias reikš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avyzdy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:  s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[ ] = “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ilver 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on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is shin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2[ ] = “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ilver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N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is shining in the dar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 j = str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p(str1, str2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);    // j &gt; 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755640" y="4005360"/>
            <a:ext cx="813744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ilu</a:t>
            </a:r>
            <a:r>
              <a:rPr b="0" lang="lt-LT" sz="4000" spc="-1" strike="noStrike">
                <a:solidFill>
                  <a:srgbClr val="000099"/>
                </a:solidFill>
                <a:latin typeface="Tahoma"/>
              </a:rPr>
              <a:t>čių lyginima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26920" y="1628640"/>
            <a:ext cx="8317080" cy="51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int st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i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cmp(const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, const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size_t num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alygina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u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irmų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boli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ų iš abiejų eilučių.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gnoruoja did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žiąsias ir mažąsias raides. Kaip ir ankstesnė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unkcij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os grąžina tas pačias reikš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avyzdy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:  s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[ ] = “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ilver 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on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is shin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2[ ] = “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ilver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N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is shining in the dar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 j = str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cmp(str1, str2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);  // j 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r *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st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wr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(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i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čia visas raides mažosiom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avyzdy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 str[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“Krinta Lapai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lwr(str);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dabar str eilut</a:t>
            </a:r>
            <a:r>
              <a:rPr b="0" lang="lt-LT" sz="1700" spc="-1" strike="noStrike">
                <a:solidFill>
                  <a:srgbClr val="000000"/>
                </a:solidFill>
                <a:latin typeface="Tahoma"/>
              </a:rPr>
              <a:t>ės visos raidės mažosio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r *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strupr(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i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čia visas raides didžiosiom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avyzdy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 str[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“Krinta Lapai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upr(str);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 //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dabar str eilut</a:t>
            </a:r>
            <a:r>
              <a:rPr b="0" lang="lt-LT" sz="1700" spc="-1" strike="noStrike">
                <a:solidFill>
                  <a:srgbClr val="000000"/>
                </a:solidFill>
                <a:latin typeface="Tahoma"/>
              </a:rPr>
              <a:t>ės visos raidės didžiosio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900000" y="3716280"/>
            <a:ext cx="777564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900000" y="5373720"/>
            <a:ext cx="777564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ilu</a:t>
            </a:r>
            <a:r>
              <a:rPr b="0" lang="lt-LT" sz="4000" spc="-1" strike="noStrike">
                <a:solidFill>
                  <a:srgbClr val="000099"/>
                </a:solidFill>
                <a:latin typeface="Tahoma"/>
              </a:rPr>
              <a:t>čių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funkcijo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26920" y="1628640"/>
            <a:ext cx="813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r *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 st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v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(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kei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čia eilutės simbolius vietomis atvirkštine tvark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avyzdy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:  s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[ ] = “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ilver 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on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rev (s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;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// dabar str1 eilutė 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noom revl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*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 st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r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(const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, const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bstr)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š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o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ar </a:t>
            </a: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str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eilutėje yra </a:t>
            </a: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substr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eilutė. Jei tokia eilutė rasta, grąžinama rodyklė į pirmąjį </a:t>
            </a: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str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simbolį, sutampantį su ieškoma eilute, jei ne  -  NULL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avyzdy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:  s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[ ] = “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ieškomas elementa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2[ ] = “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elementa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 *ptr = strstr(str1, str2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printf(“%s”, ptr);                      // atspausdinamas   elemen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6"/>
          <p:cNvSpPr/>
          <p:nvPr/>
        </p:nvSpPr>
        <p:spPr>
          <a:xfrm>
            <a:off x="900000" y="3284640"/>
            <a:ext cx="7775640" cy="0"/>
          </a:xfrm>
          <a:prstGeom prst="line">
            <a:avLst/>
          </a:prstGeom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aie</a:t>
            </a:r>
            <a:r>
              <a:rPr b="0" lang="lt-LT" sz="4000" spc="-1" strike="noStrike">
                <a:solidFill>
                  <a:srgbClr val="000099"/>
                </a:solidFill>
                <a:latin typeface="Tahoma"/>
              </a:rPr>
              <a:t>ška eilutėj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96960" y="4394160"/>
            <a:ext cx="777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char *strtok(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, const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2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Funkcija ieško eilutėje 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et kurio simbolio, esan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čio 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ilut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ėje. Sėkmės atveju eilutėje 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už rasto simbolio įterpia nulinio kodo simbol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ULL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. Kartojant kreipin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u NULL vietoje pirmo argumento, grąžinama rodyklė į kit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agment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ą. Ka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naujų fragmentų nebėra, grąžinama rodyklė NU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Dažnai ši funkcija naudojama žodžių paieškai eilutėje, žodžių atskirimo simbolius nurodant 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ilut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ėj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908000" y="1557360"/>
            <a:ext cx="55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void main 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{   char str[] ="Tai mano eilut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 * pc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ch = strstr (str,“mano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trncpy (pch, “tavo"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uts (st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900000" y="4292640"/>
            <a:ext cx="734400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6443640" y="35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Tai tavo eilutė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643280" y="3587760"/>
            <a:ext cx="1513080" cy="216000"/>
          </a:xfrm>
          <a:prstGeom prst="rightArrow">
            <a:avLst>
              <a:gd name="adj1" fmla="val 50000"/>
              <a:gd name="adj2" fmla="val 175125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4427640" y="37893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Ekran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99"/>
                </a:solidFill>
                <a:latin typeface="Tahoma"/>
              </a:rPr>
              <a:t>Pavyzdys 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692360" y="1628640"/>
            <a:ext cx="712764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 Eil[30] = "Joju, dairausi ir dainuoju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 *p, sep[5]= ",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!?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f(“%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\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,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Ei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// </a:t>
            </a:r>
            <a:r>
              <a:rPr b="0" lang="lt-LT" sz="1700" spc="-1" strike="noStrike">
                <a:solidFill>
                  <a:srgbClr val="000000"/>
                </a:solidFill>
                <a:latin typeface="Tahoma"/>
              </a:rPr>
              <a:t>Ekrane visa tiriama eilutė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// strtok įterpia ribotuvą NULL už surasto žodž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 = strtok(Eil, se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if (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f(“%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\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,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// Pirmasis žod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//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olesni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 kreipin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iai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 su argumentu NULL grąžina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kit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ų žodžių adres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while (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{   p = strtok(NULL, se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if (p)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f(“%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\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,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;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684360" y="1364760"/>
            <a:ext cx="820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lt-LT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žduotis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ota eilutė 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sd8sl653sdiw8. Nustatykite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kiek eilutėje yr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ai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čių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šveskite skaičius į ekraną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string.h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include &lt;ctype.h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d main(){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strs1[20]="mmMmmMFmm"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 p=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( unsigned int i=0;i&lt;=strlen(strs1);i+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isupper(strs1[i]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++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f (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strs1[i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755640" y="1844640"/>
            <a:ext cx="806436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imboli</a:t>
            </a:r>
            <a:r>
              <a:rPr b="0" lang="lt-LT" sz="4000" spc="-1" strike="noStrike">
                <a:solidFill>
                  <a:srgbClr val="000099"/>
                </a:solidFill>
                <a:latin typeface="Tahoma"/>
              </a:rPr>
              <a:t>ų eilutė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826920" y="1844640"/>
            <a:ext cx="806616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Simbolių eilutė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– tai simbolių masyvai, kurie užbaigiami </a:t>
            </a: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eilutė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terminatoriumi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t.y. nuliniu ASCII lentelės simboliu ‘\0’.  Simbolių eilutes sudaro simbolių visuma įrėminta dvigubose kabutė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avyzdžiu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rdas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cpy(vardas, “Viktorija”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 diena [] =  “Treciadienis”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rbui su eilut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ė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naudojamos funkcijos, kurios saugomos faile 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string.h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, Šis failas turi būti  prijungtas su direktyva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t.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rcRect l="0" t="3778" r="0" b="0"/>
          <a:stretch/>
        </p:blipFill>
        <p:spPr>
          <a:xfrm>
            <a:off x="971640" y="4365720"/>
            <a:ext cx="770580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928800" y="500040"/>
          <a:ext cx="7786440" cy="5975280"/>
        </p:xfrm>
        <a:graphic>
          <a:graphicData uri="http://schemas.openxmlformats.org/drawingml/2006/table">
            <a:tbl>
              <a:tblPr/>
              <a:tblGrid>
                <a:gridCol w="1828800"/>
                <a:gridCol w="5957640"/>
              </a:tblGrid>
              <a:tr h="337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unk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rumpas aprašy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7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trc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Kopijuoja eilute2 į eilutę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76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trc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Prie eilutės1 pabaigos prijungia eilutę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87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trc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Lygina eilutę1 su eilute2, skiria didžiasiais ir mažasiais ra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87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tricm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Lygina eilutę1 su eilute2, neskiria didžiųjų ir mažųjų raidži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7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trd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ukuria eilutės kopij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7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tr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Išveda eilutės simbolių skaiči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7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trlw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Visi eilutės simboliai pakeičiami mažosiomis raidėm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7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tru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Visi eilutės simboliai pakeičiami didžiosiomis raidėm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87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trnc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ilutės2 nurodytas simbolių skaičius prijungiamas prie eilutės1gal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7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trnc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Kopijuoja nurodytą eilutės2 simbolių skaičių į eilutę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76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strr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ilutės rever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7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isalnum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iesa, jei s yra skaičius arba raid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7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isalpha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iesa, jei s yra raid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73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islower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iesa, jei s yra mažoji raid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58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isupper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Tiesa, jei s yra didžioji raid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3000" marR="63000">
                    <a:lnL w="5760">
                      <a:solidFill>
                        <a:srgbClr val="00e4a8"/>
                      </a:solidFill>
                    </a:lnL>
                    <a:lnR w="5760">
                      <a:solidFill>
                        <a:srgbClr val="00e4a8"/>
                      </a:solidFill>
                    </a:lnR>
                    <a:lnT w="5760">
                      <a:solidFill>
                        <a:srgbClr val="00e4a8"/>
                      </a:solidFill>
                    </a:lnT>
                    <a:lnB w="5760">
                      <a:solidFill>
                        <a:srgbClr val="00e4a8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imboli</a:t>
            </a:r>
            <a:r>
              <a:rPr b="0" lang="lt-LT" sz="4000" spc="-1" strike="noStrike">
                <a:solidFill>
                  <a:srgbClr val="000099"/>
                </a:solidFill>
                <a:latin typeface="Tahoma"/>
              </a:rPr>
              <a:t>ų eilutė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214880" y="4714920"/>
            <a:ext cx="3564000" cy="1071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1428840" y="1714680"/>
            <a:ext cx="671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int main (){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 strs1[20]="m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 strs2[20]="pp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trcpy (strs1, "Labas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trcpy (strs2, "rytas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trcat(strs1, strs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rintf ("%s",strs1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rintf ("\n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ystem ("paus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return 0;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Pavyzdy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000080" y="1360440"/>
            <a:ext cx="7956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int main (){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float weight, volume; int size, letters; char name[40]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rintf("Labas! Koks Jūsų vardas? \n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canf( "%s", name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rintf("%s, kokia Jūsų masė?\n", name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canf("%f", &amp;weight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ize = sizeof( name);     //masyvo name[] dydis baita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letters = strlen(name);   //eilutės simbolių skaiči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volume = weight/120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rintf("Nuostabu, %s, Jūsų tūris %2.2f kūbiniai metrai.\n", name, volume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rintf("Be to, Jūsų vardas sudarytas iš %d raidžių, \n", letters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rintf("ir jo patalpinimas kompiuterio atmintyje užima %d baitų.\n", size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fflush(stdin);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ystem ("paus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return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9"/>
          <p:cNvSpPr/>
          <p:nvPr/>
        </p:nvSpPr>
        <p:spPr>
          <a:xfrm>
            <a:off x="755640" y="4653000"/>
            <a:ext cx="7920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826920" y="1628640"/>
            <a:ext cx="7920360" cy="51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99"/>
                </a:solidFill>
                <a:latin typeface="Tahoma"/>
              </a:rPr>
              <a:t>Eilučių kopijavima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26920" y="1700280"/>
            <a:ext cx="784872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char *strcpy(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*s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, const char *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2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Eilutę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r2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kopijuoja į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r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. Kopijavimas atliekamas iki 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str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ilut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ės terminatoriaus. Grąžina rodyklę į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r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ilut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ės 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str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lgis &lt;=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r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lg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į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avyzdžiai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 str[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]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cpy(str,”Mano batai buvo du”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508720" y="297180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 str1[]=“Mano batai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 str2[20]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 *ptr= str1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tr +=5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cpy(str2,  pt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826920" y="4508640"/>
            <a:ext cx="799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55640" y="4797360"/>
            <a:ext cx="813744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char *strncpy(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*s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, const char *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2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, num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Eilutę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r2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kopijuoja į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r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. Kopijuoja </a:t>
            </a:r>
            <a:r>
              <a:rPr b="0" i="1" lang="lt-LT" sz="1800" spc="-1" strike="noStrike">
                <a:solidFill>
                  <a:srgbClr val="000000"/>
                </a:solidFill>
                <a:latin typeface="Tahoma"/>
              </a:rPr>
              <a:t>num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simbolių iš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r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ilut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ės. Grąžina rodyklę į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ilut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r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avyzdy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:          char long[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“abcde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char shot[3]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strncpy(shot, long,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784080" y="1628640"/>
            <a:ext cx="792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7200" y="4091040"/>
            <a:ext cx="7920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Eilu</a:t>
            </a:r>
            <a:r>
              <a:rPr b="0" lang="lt-LT" sz="4000" spc="-1" strike="noStrike">
                <a:solidFill>
                  <a:srgbClr val="000099"/>
                </a:solidFill>
                <a:latin typeface="Tahoma"/>
              </a:rPr>
              <a:t>čių sujungimas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55640" y="1773360"/>
            <a:ext cx="8388360" cy="47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char *strcat(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*s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, const char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2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Eilutės 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r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kopiją prijungia prie eilutės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r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galo. Grąžina rodyklę 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ujungtas eilutes t.y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r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. Grąžinamos eilutės ilgi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strlen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) + strlen(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2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vyzdy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  char str[80]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strcpy(str, “Sveiki atvyke”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strcat(str, “i VGTU”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char *st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cat(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*s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, const char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2, num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Eilutės 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r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u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imboli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ų prijungia prie eilutės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r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galo. Grąžina rodyklę 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ujungtas eilutes t.y.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tr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. Grąžinamos eilutės ilgi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trlen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) + nu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vyzdy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  char str1[] = “Sveikas atvykes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 str2[]= “Petrai Petraiti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ncat (str1, str2, 6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f (“%s”, str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826920" y="3933720"/>
            <a:ext cx="7993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9"/>
          <p:cNvSpPr/>
          <p:nvPr/>
        </p:nvSpPr>
        <p:spPr>
          <a:xfrm>
            <a:off x="727200" y="1484280"/>
            <a:ext cx="7920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imboli</a:t>
            </a:r>
            <a:r>
              <a:rPr b="0" lang="lt-LT" sz="4000" spc="-1" strike="noStrike">
                <a:solidFill>
                  <a:srgbClr val="000099"/>
                </a:solidFill>
                <a:latin typeface="Tahoma"/>
              </a:rPr>
              <a:t>ų paiešk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26920" y="1628640"/>
            <a:ext cx="7993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char *strchr(const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, int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Eilutėje 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ieško simbolio 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. Paieška pradedama nuo eilutės pradžios 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baigiama suradus pirmąjį simbolį, lygų nurodytam. Nulinis simbol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laikomas eilutės dalimi, todėl jo paieška taip pat galima. 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avyzdžiui, 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 strchr(strs,’\ 0’)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grąžina rodyklę į nulinį simbolį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Funkcija grąžina </a:t>
            </a:r>
            <a:r>
              <a:rPr b="1" lang="lt-LT" sz="1800" spc="-1" strike="noStrike">
                <a:solidFill>
                  <a:srgbClr val="333399"/>
                </a:solidFill>
                <a:latin typeface="Tahoma"/>
              </a:rPr>
              <a:t>rodyklę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 į surastą simbolį eilutėje, arba NULL neradu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187280" y="3716280"/>
            <a:ext cx="784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void main(voi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 string[20]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"Nagrinejama eilut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 *ptr, c = 'r'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tr = strchr(string, c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(ptr !=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ile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(p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!= NULL)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</a:t>
            </a:r>
            <a:br>
              <a:rPr sz="1800"/>
            </a:b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printf("Simbolis %c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sta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%d-a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\n", c, (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tr – string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1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)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tr = strchr(ptr+1, c)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se printf (“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imbolio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eiluteje nera\n");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539640" y="3716280"/>
            <a:ext cx="828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900000" y="3932280"/>
            <a:ext cx="7920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900000" y="1484280"/>
            <a:ext cx="792000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929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Simboli</a:t>
            </a:r>
            <a:r>
              <a:rPr b="0" lang="lt-LT" sz="4000" spc="-1" strike="noStrike">
                <a:solidFill>
                  <a:srgbClr val="000099"/>
                </a:solidFill>
                <a:latin typeface="Tahoma"/>
              </a:rPr>
              <a:t>ų paiešk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900000" y="1628640"/>
            <a:ext cx="824400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char *strrchr(const char *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, int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Eilutėje 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ieško simbolio 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pradedant nuo s eilutės galo. Jei simbolis nerastas, grąžinamas 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jei rastas – rodykl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ė į rastą simbolį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avyzdy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:   char str[ ]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“abc abc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char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*ptr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ptr = strrchr(str, ‘a’);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  // </a:t>
            </a:r>
            <a:r>
              <a:rPr b="0" lang="lt-LT" sz="1600" spc="-1" strike="noStrike">
                <a:solidFill>
                  <a:srgbClr val="000000"/>
                </a:solidFill>
                <a:latin typeface="Tahoma"/>
              </a:rPr>
              <a:t>suranda pirmąją </a:t>
            </a:r>
            <a:r>
              <a:rPr b="1" i="1" lang="lt-LT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lt-L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600" spc="-1" strike="noStrike">
                <a:solidFill>
                  <a:srgbClr val="000000"/>
                </a:solidFill>
                <a:latin typeface="Tahoma"/>
              </a:rPr>
              <a:t> iš galo</a:t>
            </a:r>
            <a:br>
              <a:rPr sz="1600"/>
            </a:b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int str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pn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(const char *str1, const char *str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krina kiekvien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ą eilutės 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str1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ir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333399"/>
                </a:solidFill>
                <a:latin typeface="Tahoma"/>
              </a:rPr>
              <a:t>str2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simbolį. Funkcija grąžina sutapusių simbolių skaičių. Tikrinimas baigiamas, kai sutinkamas </a:t>
            </a: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irmas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nesutampantis simbol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Tahoma"/>
              </a:rPr>
              <a:t>Pavyzdys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:  char s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[ ] = “Mano batai buvo du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char s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[ ] = “Mano batai buvo trys”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int index = 0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index = strspn (str1, str2);     // 1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printf(“Sutapo %d simboliu</a:t>
            </a:r>
            <a:r>
              <a:rPr b="0" lang="lt-LT" sz="1800" spc="-1" strike="noStrike">
                <a:solidFill>
                  <a:srgbClr val="000000"/>
                </a:solidFill>
                <a:latin typeface="Tahoma"/>
              </a:rPr>
              <a:t> \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, inde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900000" y="3860640"/>
            <a:ext cx="784872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6T08:31:27Z</dcterms:created>
  <dc:creator>Dalius</dc:creator>
  <dc:description/>
  <dc:language>en-US</dc:language>
  <cp:lastModifiedBy>Mindaugas Gofmanas</cp:lastModifiedBy>
  <dcterms:modified xsi:type="dcterms:W3CDTF">2009-02-05T09:14:31Z</dcterms:modified>
  <cp:revision>236</cp:revision>
  <dc:subject/>
  <dc:title>C  programavimo kalba</dc:title>
</cp:coreProperties>
</file>